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D80-47C3-4D17-9348-3C6601A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027-F113-4DA4-90AD-D0A3A2A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959-BC56-4591-995A-469107D3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638-D591-476D-8745-D8BC87A1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056D-5D83-4D8A-81A4-450E058C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FB00-C3A7-4B07-9A9C-FDE9E76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C6D3-20EE-4C79-A18C-83E1F908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221-F973-47E6-9C26-6F16683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D9DA-F9D1-4293-9D73-105FAEE0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1974-F927-4F86-9F58-383DC29D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9057-1E60-404D-90C4-0A8CBB2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FB3-620B-47BD-AD40-5D8D964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D05C-DDF9-4956-8A48-F61A790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C96-B634-4010-9279-E2DF5AD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DB9-AAC8-48B1-B771-CEF52BE9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083-BF9C-47D5-AE9B-B2A74FE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7DE-7127-4B2B-906A-51FA0DA0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46D-08C5-4B29-A600-BBECBF57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F75-C631-466F-B1DF-8F8C186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2B2-F756-4010-9153-34F1D07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246-B04F-43F2-A72F-76CFFB5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7DC-A794-44AD-A358-4A90450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2ED-3175-4BC6-8027-A8D8F92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720-75CE-4E4B-9DA4-00F6EA9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D42D-69DF-4946-A4A9-D347D93B95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0E4A-85D3-4FB9-B969-790BEC459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2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rim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 write any whole number as the product of primes.</a:t>
            </a:r>
            <a:endParaRPr b="1" lang="en-US" sz="2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rime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Composite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99ff"/>
                </a:solidFill>
                <a:uFillTx/>
                <a:latin typeface="Arial"/>
              </a:rPr>
              <a:t>Hard to believe fact: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7120" y="2133720"/>
            <a:ext cx="196920" cy="171360"/>
          </a:xfrm>
          <a:custGeom>
            <a:avLst/>
            <a:gdLst/>
            <a:ahLst/>
            <a:rect l="l" t="t" r="r" b="b"/>
            <a:pathLst>
              <a:path w="546" h="473">
                <a:moveTo>
                  <a:pt x="4440" y="6003"/>
                </a:moveTo>
                <a:cubicBezTo>
                  <a:pt x="4440" y="6099"/>
                  <a:pt x="4447" y="6208"/>
                  <a:pt x="4465" y="6300"/>
                </a:cubicBezTo>
                <a:cubicBezTo>
                  <a:pt x="4484" y="6358"/>
                  <a:pt x="4493" y="6365"/>
                  <a:pt x="4490" y="6400"/>
                </a:cubicBezTo>
              </a:path>
              <a:path w="546" h="473">
                <a:moveTo>
                  <a:pt x="4589" y="5928"/>
                </a:moveTo>
                <a:cubicBezTo>
                  <a:pt x="4636" y="6058"/>
                  <a:pt x="4654" y="6187"/>
                  <a:pt x="4663" y="6325"/>
                </a:cubicBezTo>
              </a:path>
              <a:path w="546" h="473">
                <a:moveTo>
                  <a:pt x="4242" y="6226"/>
                </a:moveTo>
                <a:cubicBezTo>
                  <a:pt x="4367" y="6163"/>
                  <a:pt x="4482" y="6097"/>
                  <a:pt x="4614" y="6052"/>
                </a:cubicBezTo>
                <a:cubicBezTo>
                  <a:pt x="4681" y="6029"/>
                  <a:pt x="4721" y="6005"/>
                  <a:pt x="4787" y="5978"/>
                </a:cubicBezTo>
              </a:path>
              <a:path w="546" h="473">
                <a:moveTo>
                  <a:pt x="4316" y="6325"/>
                </a:moveTo>
                <a:cubicBezTo>
                  <a:pt x="4446" y="6273"/>
                  <a:pt x="4587" y="6241"/>
                  <a:pt x="4713" y="6176"/>
                </a:cubicBezTo>
                <a:cubicBezTo>
                  <a:pt x="4738" y="6160"/>
                  <a:pt x="4762" y="6143"/>
                  <a:pt x="478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44800" y="2143080"/>
            <a:ext cx="473040" cy="312840"/>
          </a:xfrm>
          <a:custGeom>
            <a:avLst/>
            <a:gdLst/>
            <a:ahLst/>
            <a:rect l="l" t="t" r="r" b="b"/>
            <a:pathLst>
              <a:path w="1316" h="869">
                <a:moveTo>
                  <a:pt x="5705" y="5953"/>
                </a:moveTo>
                <a:cubicBezTo>
                  <a:pt x="5676" y="6167"/>
                  <a:pt x="5695" y="6420"/>
                  <a:pt x="5680" y="6648"/>
                </a:cubicBezTo>
                <a:cubicBezTo>
                  <a:pt x="5680" y="6673"/>
                  <a:pt x="5680" y="6697"/>
                  <a:pt x="5680" y="6722"/>
                </a:cubicBezTo>
                <a:cubicBezTo>
                  <a:pt x="5689" y="6516"/>
                  <a:pt x="5672" y="6406"/>
                  <a:pt x="5854" y="6300"/>
                </a:cubicBezTo>
                <a:cubicBezTo>
                  <a:pt x="6015" y="6419"/>
                  <a:pt x="6075" y="6531"/>
                  <a:pt x="6052" y="6747"/>
                </a:cubicBezTo>
                <a:cubicBezTo>
                  <a:pt x="6044" y="6772"/>
                  <a:pt x="6036" y="6796"/>
                  <a:pt x="6028" y="6821"/>
                </a:cubicBezTo>
              </a:path>
              <a:path w="1316" h="869">
                <a:moveTo>
                  <a:pt x="6449" y="6474"/>
                </a:moveTo>
                <a:cubicBezTo>
                  <a:pt x="6426" y="6407"/>
                  <a:pt x="6425" y="6386"/>
                  <a:pt x="6375" y="6375"/>
                </a:cubicBezTo>
                <a:cubicBezTo>
                  <a:pt x="6203" y="6441"/>
                  <a:pt x="6163" y="6565"/>
                  <a:pt x="6102" y="6747"/>
                </a:cubicBezTo>
                <a:cubicBezTo>
                  <a:pt x="6287" y="6734"/>
                  <a:pt x="6341" y="6629"/>
                  <a:pt x="6424" y="6449"/>
                </a:cubicBezTo>
                <a:cubicBezTo>
                  <a:pt x="6424" y="6582"/>
                  <a:pt x="6402" y="6618"/>
                  <a:pt x="6524" y="6648"/>
                </a:cubicBezTo>
              </a:path>
              <a:path w="1316" h="869">
                <a:moveTo>
                  <a:pt x="6821" y="6276"/>
                </a:moveTo>
                <a:cubicBezTo>
                  <a:pt x="6756" y="6319"/>
                  <a:pt x="6741" y="6330"/>
                  <a:pt x="6697" y="6350"/>
                </a:cubicBezTo>
                <a:cubicBezTo>
                  <a:pt x="6754" y="6369"/>
                  <a:pt x="7120" y="6456"/>
                  <a:pt x="6995" y="6598"/>
                </a:cubicBezTo>
                <a:cubicBezTo>
                  <a:pt x="6954" y="6615"/>
                  <a:pt x="6912" y="6631"/>
                  <a:pt x="687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95760" y="2133720"/>
            <a:ext cx="1774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7863" y="5978"/>
                </a:moveTo>
                <a:cubicBezTo>
                  <a:pt x="8055" y="5892"/>
                  <a:pt x="8260" y="6003"/>
                  <a:pt x="8260" y="6251"/>
                </a:cubicBezTo>
                <a:cubicBezTo>
                  <a:pt x="8260" y="6549"/>
                  <a:pt x="7933" y="6620"/>
                  <a:pt x="7764" y="6524"/>
                </a:cubicBezTo>
                <a:cubicBezTo>
                  <a:pt x="7897" y="6377"/>
                  <a:pt x="8012" y="6410"/>
                  <a:pt x="8186" y="6548"/>
                </a:cubicBezTo>
                <a:cubicBezTo>
                  <a:pt x="8211" y="6573"/>
                  <a:pt x="8235" y="6598"/>
                  <a:pt x="8260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14800" y="2071800"/>
            <a:ext cx="1233360" cy="312480"/>
          </a:xfrm>
          <a:custGeom>
            <a:avLst/>
            <a:gdLst/>
            <a:ahLst/>
            <a:rect l="l" t="t" r="r" b="b"/>
            <a:pathLst>
              <a:path w="3424" h="869">
                <a:moveTo>
                  <a:pt x="9401" y="5854"/>
                </a:moveTo>
                <a:cubicBezTo>
                  <a:pt x="9213" y="5736"/>
                  <a:pt x="8942" y="5695"/>
                  <a:pt x="8930" y="6003"/>
                </a:cubicBezTo>
                <a:cubicBezTo>
                  <a:pt x="8922" y="6217"/>
                  <a:pt x="9075" y="6389"/>
                  <a:pt x="9103" y="6598"/>
                </a:cubicBezTo>
              </a:path>
              <a:path w="3424" h="869">
                <a:moveTo>
                  <a:pt x="9004" y="6375"/>
                </a:moveTo>
                <a:cubicBezTo>
                  <a:pt x="9159" y="6323"/>
                  <a:pt x="9215" y="6305"/>
                  <a:pt x="9327" y="6300"/>
                </a:cubicBezTo>
              </a:path>
              <a:path w="3424" h="869">
                <a:moveTo>
                  <a:pt x="9798" y="6300"/>
                </a:moveTo>
                <a:cubicBezTo>
                  <a:pt x="9626" y="6181"/>
                  <a:pt x="9532" y="6261"/>
                  <a:pt x="9475" y="6474"/>
                </a:cubicBezTo>
                <a:cubicBezTo>
                  <a:pt x="9475" y="6575"/>
                  <a:pt x="9455" y="6606"/>
                  <a:pt x="9525" y="6623"/>
                </a:cubicBezTo>
                <a:cubicBezTo>
                  <a:pt x="9645" y="6494"/>
                  <a:pt x="9626" y="6344"/>
                  <a:pt x="9748" y="6449"/>
                </a:cubicBezTo>
                <a:cubicBezTo>
                  <a:pt x="9841" y="6520"/>
                  <a:pt x="9868" y="6546"/>
                  <a:pt x="9947" y="6499"/>
                </a:cubicBezTo>
              </a:path>
              <a:path w="3424" h="869">
                <a:moveTo>
                  <a:pt x="10244" y="6251"/>
                </a:moveTo>
                <a:cubicBezTo>
                  <a:pt x="10236" y="6234"/>
                  <a:pt x="10228" y="6218"/>
                  <a:pt x="10220" y="6201"/>
                </a:cubicBezTo>
                <a:cubicBezTo>
                  <a:pt x="10130" y="6231"/>
                  <a:pt x="9925" y="6472"/>
                  <a:pt x="10120" y="6548"/>
                </a:cubicBezTo>
                <a:cubicBezTo>
                  <a:pt x="10326" y="6548"/>
                  <a:pt x="10399" y="6545"/>
                  <a:pt x="10517" y="6449"/>
                </a:cubicBezTo>
              </a:path>
              <a:path w="3424" h="869">
                <a:moveTo>
                  <a:pt x="10616" y="5879"/>
                </a:moveTo>
                <a:cubicBezTo>
                  <a:pt x="10671" y="6089"/>
                  <a:pt x="10758" y="6287"/>
                  <a:pt x="10790" y="6499"/>
                </a:cubicBezTo>
              </a:path>
              <a:path w="3424" h="869">
                <a:moveTo>
                  <a:pt x="10567" y="6226"/>
                </a:moveTo>
                <a:cubicBezTo>
                  <a:pt x="10744" y="6226"/>
                  <a:pt x="10912" y="6219"/>
                  <a:pt x="11088" y="6201"/>
                </a:cubicBezTo>
                <a:cubicBezTo>
                  <a:pt x="11060" y="6383"/>
                  <a:pt x="11028" y="6434"/>
                  <a:pt x="11137" y="6598"/>
                </a:cubicBezTo>
                <a:cubicBezTo>
                  <a:pt x="11228" y="6562"/>
                  <a:pt x="11464" y="6432"/>
                  <a:pt x="11286" y="6300"/>
                </a:cubicBezTo>
                <a:cubicBezTo>
                  <a:pt x="11154" y="6257"/>
                  <a:pt x="11122" y="6245"/>
                  <a:pt x="11038" y="6226"/>
                </a:cubicBezTo>
              </a:path>
              <a:path w="3424" h="869">
                <a:moveTo>
                  <a:pt x="11410" y="6325"/>
                </a:moveTo>
                <a:cubicBezTo>
                  <a:pt x="11457" y="6442"/>
                  <a:pt x="11470" y="6476"/>
                  <a:pt x="11509" y="6548"/>
                </a:cubicBezTo>
                <a:cubicBezTo>
                  <a:pt x="11516" y="6420"/>
                  <a:pt x="11531" y="6339"/>
                  <a:pt x="11584" y="6226"/>
                </a:cubicBezTo>
              </a:path>
              <a:path w="3424" h="869">
                <a:moveTo>
                  <a:pt x="12129" y="6226"/>
                </a:moveTo>
                <a:cubicBezTo>
                  <a:pt x="12062" y="6268"/>
                  <a:pt x="12008" y="6298"/>
                  <a:pt x="11956" y="6350"/>
                </a:cubicBezTo>
                <a:cubicBezTo>
                  <a:pt x="12053" y="6458"/>
                  <a:pt x="12211" y="6461"/>
                  <a:pt x="12353" y="6548"/>
                </a:cubicBezTo>
                <a:cubicBezTo>
                  <a:pt x="12234" y="6638"/>
                  <a:pt x="12176" y="6663"/>
                  <a:pt x="12055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94200" y="2125800"/>
            <a:ext cx="54000" cy="2491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13593" y="5904"/>
                </a:moveTo>
                <a:cubicBezTo>
                  <a:pt x="13652" y="6133"/>
                  <a:pt x="13714" y="6364"/>
                  <a:pt x="13742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05240" y="2187720"/>
            <a:ext cx="81000" cy="10764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4610" y="6276"/>
                </a:moveTo>
                <a:cubicBezTo>
                  <a:pt x="14610" y="6450"/>
                  <a:pt x="14573" y="6331"/>
                  <a:pt x="14461" y="6226"/>
                </a:cubicBezTo>
                <a:cubicBezTo>
                  <a:pt x="14528" y="6336"/>
                  <a:pt x="14547" y="6282"/>
                  <a:pt x="14684" y="6276"/>
                </a:cubicBezTo>
              </a:path>
              <a:path w="224" h="299">
                <a:moveTo>
                  <a:pt x="14486" y="6077"/>
                </a:moveTo>
                <a:cubicBezTo>
                  <a:pt x="14521" y="6172"/>
                  <a:pt x="14530" y="6249"/>
                  <a:pt x="14536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10160" y="2062080"/>
            <a:ext cx="633600" cy="277920"/>
          </a:xfrm>
          <a:custGeom>
            <a:avLst/>
            <a:gdLst/>
            <a:ahLst/>
            <a:rect l="l" t="t" r="r" b="b"/>
            <a:pathLst>
              <a:path w="1763" h="770">
                <a:moveTo>
                  <a:pt x="15329" y="6152"/>
                </a:moveTo>
                <a:cubicBezTo>
                  <a:pt x="15348" y="6266"/>
                  <a:pt x="15380" y="6383"/>
                  <a:pt x="15404" y="6499"/>
                </a:cubicBezTo>
              </a:path>
              <a:path w="1763" h="770">
                <a:moveTo>
                  <a:pt x="15304" y="5904"/>
                </a:moveTo>
                <a:lnTo>
                  <a:pt x="15304" y="5904"/>
                </a:lnTo>
              </a:path>
              <a:path w="1763" h="770">
                <a:moveTo>
                  <a:pt x="15652" y="5779"/>
                </a:moveTo>
                <a:cubicBezTo>
                  <a:pt x="15726" y="6002"/>
                  <a:pt x="15791" y="6231"/>
                  <a:pt x="15875" y="6449"/>
                </a:cubicBezTo>
              </a:path>
              <a:path w="1763" h="770">
                <a:moveTo>
                  <a:pt x="15602" y="6201"/>
                </a:moveTo>
                <a:cubicBezTo>
                  <a:pt x="15756" y="6169"/>
                  <a:pt x="15892" y="6157"/>
                  <a:pt x="16049" y="6152"/>
                </a:cubicBezTo>
              </a:path>
              <a:path w="1763" h="770">
                <a:moveTo>
                  <a:pt x="16272" y="6102"/>
                </a:moveTo>
                <a:cubicBezTo>
                  <a:pt x="16196" y="6102"/>
                  <a:pt x="16170" y="6102"/>
                  <a:pt x="16123" y="6127"/>
                </a:cubicBezTo>
                <a:cubicBezTo>
                  <a:pt x="16190" y="6260"/>
                  <a:pt x="16384" y="6217"/>
                  <a:pt x="16470" y="6350"/>
                </a:cubicBezTo>
                <a:cubicBezTo>
                  <a:pt x="16418" y="6404"/>
                  <a:pt x="16371" y="6425"/>
                  <a:pt x="16297" y="6424"/>
                </a:cubicBezTo>
              </a:path>
              <a:path w="1763" h="770">
                <a:moveTo>
                  <a:pt x="16545" y="6226"/>
                </a:moveTo>
                <a:cubicBezTo>
                  <a:pt x="16679" y="6199"/>
                  <a:pt x="16742" y="6232"/>
                  <a:pt x="16768" y="6102"/>
                </a:cubicBezTo>
                <a:cubicBezTo>
                  <a:pt x="16637" y="6062"/>
                  <a:pt x="16460" y="6108"/>
                  <a:pt x="16495" y="6300"/>
                </a:cubicBezTo>
                <a:cubicBezTo>
                  <a:pt x="16568" y="6421"/>
                  <a:pt x="16590" y="6461"/>
                  <a:pt x="16694" y="6474"/>
                </a:cubicBezTo>
              </a:path>
              <a:path w="1763" h="770">
                <a:moveTo>
                  <a:pt x="16892" y="5730"/>
                </a:moveTo>
                <a:cubicBezTo>
                  <a:pt x="16914" y="5922"/>
                  <a:pt x="16996" y="6110"/>
                  <a:pt x="17041" y="6300"/>
                </a:cubicBezTo>
                <a:cubicBezTo>
                  <a:pt x="17049" y="6341"/>
                  <a:pt x="17058" y="6383"/>
                  <a:pt x="1706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96040" y="2027160"/>
            <a:ext cx="125280" cy="295200"/>
          </a:xfrm>
          <a:custGeom>
            <a:avLst/>
            <a:gdLst/>
            <a:ahLst/>
            <a:rect l="l" t="t" r="r" b="b"/>
            <a:pathLst>
              <a:path w="349" h="819">
                <a:moveTo>
                  <a:pt x="17835" y="5755"/>
                </a:moveTo>
                <a:cubicBezTo>
                  <a:pt x="17762" y="5693"/>
                  <a:pt x="17583" y="5521"/>
                  <a:pt x="17512" y="5705"/>
                </a:cubicBezTo>
                <a:cubicBezTo>
                  <a:pt x="17425" y="5928"/>
                  <a:pt x="17497" y="6214"/>
                  <a:pt x="17587" y="6424"/>
                </a:cubicBezTo>
                <a:cubicBezTo>
                  <a:pt x="17595" y="6432"/>
                  <a:pt x="17603" y="6441"/>
                  <a:pt x="17611" y="6449"/>
                </a:cubicBezTo>
              </a:path>
              <a:path w="349" h="819">
                <a:moveTo>
                  <a:pt x="17487" y="6152"/>
                </a:moveTo>
                <a:cubicBezTo>
                  <a:pt x="17545" y="6144"/>
                  <a:pt x="17603" y="6135"/>
                  <a:pt x="17661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7080" y="262584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6325" y="7392"/>
                </a:moveTo>
                <a:cubicBezTo>
                  <a:pt x="6354" y="7530"/>
                  <a:pt x="6375" y="7647"/>
                  <a:pt x="6375" y="7789"/>
                </a:cubicBezTo>
              </a:path>
              <a:path w="621" h="497">
                <a:moveTo>
                  <a:pt x="6548" y="7293"/>
                </a:moveTo>
                <a:cubicBezTo>
                  <a:pt x="6571" y="7407"/>
                  <a:pt x="6615" y="7524"/>
                  <a:pt x="6648" y="7640"/>
                </a:cubicBezTo>
              </a:path>
              <a:path w="621" h="497">
                <a:moveTo>
                  <a:pt x="6102" y="7565"/>
                </a:moveTo>
                <a:cubicBezTo>
                  <a:pt x="6256" y="7489"/>
                  <a:pt x="6409" y="7418"/>
                  <a:pt x="6573" y="7367"/>
                </a:cubicBezTo>
                <a:cubicBezTo>
                  <a:pt x="6606" y="7359"/>
                  <a:pt x="6639" y="7350"/>
                  <a:pt x="6672" y="7342"/>
                </a:cubicBezTo>
              </a:path>
              <a:path w="621" h="497">
                <a:moveTo>
                  <a:pt x="6201" y="7640"/>
                </a:moveTo>
                <a:cubicBezTo>
                  <a:pt x="6362" y="7592"/>
                  <a:pt x="6542" y="7551"/>
                  <a:pt x="6697" y="7491"/>
                </a:cubicBezTo>
                <a:cubicBezTo>
                  <a:pt x="6705" y="7483"/>
                  <a:pt x="6714" y="7474"/>
                  <a:pt x="6722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3040" y="2687760"/>
            <a:ext cx="196920" cy="304560"/>
          </a:xfrm>
          <a:custGeom>
            <a:avLst/>
            <a:gdLst/>
            <a:ahLst/>
            <a:rect l="l" t="t" r="r" b="b"/>
            <a:pathLst>
              <a:path w="547" h="845">
                <a:moveTo>
                  <a:pt x="7962" y="7541"/>
                </a:moveTo>
                <a:cubicBezTo>
                  <a:pt x="8081" y="7481"/>
                  <a:pt x="8149" y="7473"/>
                  <a:pt x="8285" y="7466"/>
                </a:cubicBezTo>
                <a:cubicBezTo>
                  <a:pt x="8341" y="7721"/>
                  <a:pt x="8235" y="7785"/>
                  <a:pt x="8012" y="7913"/>
                </a:cubicBezTo>
                <a:cubicBezTo>
                  <a:pt x="8150" y="7775"/>
                  <a:pt x="8237" y="7873"/>
                  <a:pt x="8359" y="7987"/>
                </a:cubicBezTo>
                <a:cubicBezTo>
                  <a:pt x="8260" y="8233"/>
                  <a:pt x="8125" y="8327"/>
                  <a:pt x="7838" y="8310"/>
                </a:cubicBezTo>
                <a:cubicBezTo>
                  <a:pt x="7830" y="8302"/>
                  <a:pt x="7821" y="8293"/>
                  <a:pt x="7813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2768760"/>
            <a:ext cx="303120" cy="19656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9178" y="7764"/>
                </a:moveTo>
                <a:cubicBezTo>
                  <a:pt x="9019" y="7764"/>
                  <a:pt x="8949" y="7961"/>
                  <a:pt x="8930" y="8111"/>
                </a:cubicBezTo>
                <a:cubicBezTo>
                  <a:pt x="8938" y="8152"/>
                  <a:pt x="8946" y="8194"/>
                  <a:pt x="8954" y="8235"/>
                </a:cubicBezTo>
                <a:cubicBezTo>
                  <a:pt x="9120" y="8208"/>
                  <a:pt x="9377" y="8161"/>
                  <a:pt x="9252" y="7938"/>
                </a:cubicBezTo>
                <a:cubicBezTo>
                  <a:pt x="9168" y="7853"/>
                  <a:pt x="9154" y="7826"/>
                  <a:pt x="9079" y="7813"/>
                </a:cubicBezTo>
              </a:path>
              <a:path w="844" h="547">
                <a:moveTo>
                  <a:pt x="9500" y="7987"/>
                </a:moveTo>
                <a:cubicBezTo>
                  <a:pt x="9517" y="8020"/>
                  <a:pt x="9533" y="8053"/>
                  <a:pt x="9550" y="8086"/>
                </a:cubicBezTo>
                <a:cubicBezTo>
                  <a:pt x="9588" y="8239"/>
                  <a:pt x="9491" y="7903"/>
                  <a:pt x="9575" y="7789"/>
                </a:cubicBezTo>
                <a:cubicBezTo>
                  <a:pt x="9668" y="7718"/>
                  <a:pt x="9694" y="7695"/>
                  <a:pt x="9773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8840" y="2795760"/>
            <a:ext cx="723960" cy="169560"/>
          </a:xfrm>
          <a:custGeom>
            <a:avLst/>
            <a:gdLst/>
            <a:ahLst/>
            <a:rect l="l" t="t" r="r" b="b"/>
            <a:pathLst>
              <a:path w="2010" h="472">
                <a:moveTo>
                  <a:pt x="10468" y="7888"/>
                </a:moveTo>
                <a:cubicBezTo>
                  <a:pt x="10502" y="7994"/>
                  <a:pt x="10546" y="8105"/>
                  <a:pt x="10567" y="8210"/>
                </a:cubicBezTo>
                <a:cubicBezTo>
                  <a:pt x="10529" y="8136"/>
                  <a:pt x="10417" y="7863"/>
                  <a:pt x="10616" y="7863"/>
                </a:cubicBezTo>
                <a:cubicBezTo>
                  <a:pt x="10792" y="7863"/>
                  <a:pt x="10903" y="8022"/>
                  <a:pt x="10889" y="8161"/>
                </a:cubicBezTo>
                <a:cubicBezTo>
                  <a:pt x="10784" y="8161"/>
                  <a:pt x="10771" y="7984"/>
                  <a:pt x="10864" y="7888"/>
                </a:cubicBezTo>
                <a:cubicBezTo>
                  <a:pt x="10897" y="7871"/>
                  <a:pt x="10931" y="7855"/>
                  <a:pt x="10964" y="7838"/>
                </a:cubicBezTo>
                <a:cubicBezTo>
                  <a:pt x="11151" y="7921"/>
                  <a:pt x="11161" y="7983"/>
                  <a:pt x="11212" y="8186"/>
                </a:cubicBezTo>
              </a:path>
              <a:path w="2010" h="472">
                <a:moveTo>
                  <a:pt x="11410" y="7764"/>
                </a:moveTo>
                <a:cubicBezTo>
                  <a:pt x="11308" y="7802"/>
                  <a:pt x="11180" y="7976"/>
                  <a:pt x="11212" y="8111"/>
                </a:cubicBezTo>
                <a:cubicBezTo>
                  <a:pt x="11237" y="8136"/>
                  <a:pt x="11261" y="8161"/>
                  <a:pt x="11286" y="8186"/>
                </a:cubicBezTo>
                <a:cubicBezTo>
                  <a:pt x="11443" y="8163"/>
                  <a:pt x="11721" y="8118"/>
                  <a:pt x="11559" y="7888"/>
                </a:cubicBezTo>
                <a:cubicBezTo>
                  <a:pt x="11466" y="7817"/>
                  <a:pt x="11440" y="7794"/>
                  <a:pt x="11361" y="7789"/>
                </a:cubicBezTo>
              </a:path>
              <a:path w="2010" h="472">
                <a:moveTo>
                  <a:pt x="11782" y="7938"/>
                </a:moveTo>
                <a:cubicBezTo>
                  <a:pt x="11825" y="8045"/>
                  <a:pt x="11836" y="8069"/>
                  <a:pt x="11857" y="8136"/>
                </a:cubicBezTo>
                <a:cubicBezTo>
                  <a:pt x="11781" y="7911"/>
                  <a:pt x="11782" y="7908"/>
                  <a:pt x="11981" y="7813"/>
                </a:cubicBezTo>
              </a:path>
              <a:path w="2010" h="472">
                <a:moveTo>
                  <a:pt x="12179" y="7987"/>
                </a:moveTo>
                <a:cubicBezTo>
                  <a:pt x="12282" y="7966"/>
                  <a:pt x="12380" y="7948"/>
                  <a:pt x="12477" y="7913"/>
                </a:cubicBezTo>
                <a:cubicBezTo>
                  <a:pt x="12455" y="7801"/>
                  <a:pt x="12370" y="7757"/>
                  <a:pt x="12254" y="7813"/>
                </a:cubicBezTo>
                <a:cubicBezTo>
                  <a:pt x="12095" y="7890"/>
                  <a:pt x="12077" y="8170"/>
                  <a:pt x="12254" y="8235"/>
                </a:cubicBezTo>
                <a:cubicBezTo>
                  <a:pt x="12373" y="8235"/>
                  <a:pt x="12411" y="8237"/>
                  <a:pt x="1247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32200" y="2616120"/>
            <a:ext cx="1268640" cy="357120"/>
          </a:xfrm>
          <a:custGeom>
            <a:avLst/>
            <a:gdLst/>
            <a:ahLst/>
            <a:rect l="l" t="t" r="r" b="b"/>
            <a:pathLst>
              <a:path w="3524" h="993">
                <a:moveTo>
                  <a:pt x="13742" y="7491"/>
                </a:moveTo>
                <a:cubicBezTo>
                  <a:pt x="13706" y="7406"/>
                  <a:pt x="13649" y="7260"/>
                  <a:pt x="13519" y="7317"/>
                </a:cubicBezTo>
                <a:cubicBezTo>
                  <a:pt x="13239" y="7440"/>
                  <a:pt x="13507" y="7892"/>
                  <a:pt x="13543" y="8086"/>
                </a:cubicBezTo>
                <a:cubicBezTo>
                  <a:pt x="13543" y="8185"/>
                  <a:pt x="13543" y="8202"/>
                  <a:pt x="13543" y="8260"/>
                </a:cubicBezTo>
              </a:path>
              <a:path w="3524" h="993">
                <a:moveTo>
                  <a:pt x="13146" y="7913"/>
                </a:moveTo>
                <a:cubicBezTo>
                  <a:pt x="13395" y="7895"/>
                  <a:pt x="13639" y="7849"/>
                  <a:pt x="13891" y="7838"/>
                </a:cubicBezTo>
              </a:path>
              <a:path w="3524" h="993">
                <a:moveTo>
                  <a:pt x="14015" y="7888"/>
                </a:moveTo>
                <a:cubicBezTo>
                  <a:pt x="13972" y="7759"/>
                  <a:pt x="13816" y="7891"/>
                  <a:pt x="13767" y="7987"/>
                </a:cubicBezTo>
                <a:cubicBezTo>
                  <a:pt x="13759" y="8028"/>
                  <a:pt x="13750" y="8070"/>
                  <a:pt x="13742" y="8111"/>
                </a:cubicBezTo>
                <a:cubicBezTo>
                  <a:pt x="13883" y="8187"/>
                  <a:pt x="14091" y="8203"/>
                  <a:pt x="14114" y="7962"/>
                </a:cubicBezTo>
                <a:cubicBezTo>
                  <a:pt x="14106" y="7937"/>
                  <a:pt x="14097" y="7913"/>
                  <a:pt x="14089" y="7888"/>
                </a:cubicBezTo>
                <a:cubicBezTo>
                  <a:pt x="14126" y="7953"/>
                  <a:pt x="14234" y="8201"/>
                  <a:pt x="14362" y="8111"/>
                </a:cubicBezTo>
                <a:cubicBezTo>
                  <a:pt x="14387" y="8078"/>
                  <a:pt x="14411" y="8045"/>
                  <a:pt x="14436" y="8012"/>
                </a:cubicBezTo>
              </a:path>
              <a:path w="3524" h="993">
                <a:moveTo>
                  <a:pt x="14585" y="7739"/>
                </a:moveTo>
                <a:cubicBezTo>
                  <a:pt x="14620" y="7844"/>
                  <a:pt x="14576" y="7739"/>
                  <a:pt x="14511" y="7714"/>
                </a:cubicBezTo>
                <a:cubicBezTo>
                  <a:pt x="14426" y="7831"/>
                  <a:pt x="14325" y="8038"/>
                  <a:pt x="14536" y="8111"/>
                </a:cubicBezTo>
                <a:cubicBezTo>
                  <a:pt x="14688" y="8111"/>
                  <a:pt x="14740" y="8109"/>
                  <a:pt x="14808" y="8012"/>
                </a:cubicBezTo>
              </a:path>
              <a:path w="3524" h="993">
                <a:moveTo>
                  <a:pt x="14908" y="7268"/>
                </a:moveTo>
                <a:cubicBezTo>
                  <a:pt x="14982" y="7491"/>
                  <a:pt x="15056" y="7715"/>
                  <a:pt x="15131" y="7938"/>
                </a:cubicBezTo>
                <a:cubicBezTo>
                  <a:pt x="15139" y="7963"/>
                  <a:pt x="15148" y="7987"/>
                  <a:pt x="15156" y="8012"/>
                </a:cubicBezTo>
              </a:path>
              <a:path w="3524" h="993">
                <a:moveTo>
                  <a:pt x="14883" y="7615"/>
                </a:moveTo>
                <a:cubicBezTo>
                  <a:pt x="15091" y="7637"/>
                  <a:pt x="15271" y="7631"/>
                  <a:pt x="15478" y="7615"/>
                </a:cubicBezTo>
                <a:cubicBezTo>
                  <a:pt x="15425" y="7795"/>
                  <a:pt x="15384" y="7887"/>
                  <a:pt x="15453" y="8062"/>
                </a:cubicBezTo>
                <a:cubicBezTo>
                  <a:pt x="15604" y="8042"/>
                  <a:pt x="15731" y="7991"/>
                  <a:pt x="15627" y="7813"/>
                </a:cubicBezTo>
                <a:cubicBezTo>
                  <a:pt x="15538" y="7702"/>
                  <a:pt x="15519" y="7667"/>
                  <a:pt x="15429" y="7640"/>
                </a:cubicBezTo>
              </a:path>
              <a:path w="3524" h="993">
                <a:moveTo>
                  <a:pt x="15801" y="7789"/>
                </a:moveTo>
                <a:cubicBezTo>
                  <a:pt x="15845" y="7878"/>
                  <a:pt x="15858" y="7901"/>
                  <a:pt x="15875" y="7962"/>
                </a:cubicBezTo>
                <a:cubicBezTo>
                  <a:pt x="15920" y="7774"/>
                  <a:pt x="15915" y="7604"/>
                  <a:pt x="16123" y="7565"/>
                </a:cubicBezTo>
                <a:cubicBezTo>
                  <a:pt x="16156" y="7565"/>
                  <a:pt x="16189" y="7565"/>
                  <a:pt x="16222" y="7565"/>
                </a:cubicBezTo>
              </a:path>
              <a:path w="3524" h="993">
                <a:moveTo>
                  <a:pt x="16495" y="7590"/>
                </a:moveTo>
                <a:cubicBezTo>
                  <a:pt x="16389" y="7611"/>
                  <a:pt x="16361" y="7607"/>
                  <a:pt x="16321" y="7665"/>
                </a:cubicBezTo>
                <a:cubicBezTo>
                  <a:pt x="16448" y="7746"/>
                  <a:pt x="16577" y="7795"/>
                  <a:pt x="16669" y="7913"/>
                </a:cubicBezTo>
                <a:cubicBezTo>
                  <a:pt x="16535" y="7997"/>
                  <a:pt x="16525" y="7976"/>
                  <a:pt x="1637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2960" y="3152880"/>
            <a:ext cx="1204920" cy="33948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02080" y="31608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95960" y="3232080"/>
            <a:ext cx="133200" cy="1350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80080" y="307188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19920" y="301788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12040" y="302724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9720" y="3027240"/>
            <a:ext cx="777600" cy="33048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8040" y="3286080"/>
            <a:ext cx="955800" cy="25884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3800" y="3419640"/>
            <a:ext cx="117144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03640" y="3473280"/>
            <a:ext cx="1349280" cy="61776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94080" y="358920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9080" y="4429080"/>
            <a:ext cx="1581120" cy="30312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00240" y="417024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5120" y="4224240"/>
            <a:ext cx="304920" cy="22392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240" y="417996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Skill Practice:  Complete 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prime factorizations</a:t>
            </a: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 for the following problem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59120" y="3348000"/>
            <a:ext cx="189000" cy="9036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0443" y="9451"/>
                </a:moveTo>
                <a:cubicBezTo>
                  <a:pt x="10467" y="9499"/>
                  <a:pt x="10476" y="9513"/>
                  <a:pt x="10468" y="9550"/>
                </a:cubicBezTo>
                <a:cubicBezTo>
                  <a:pt x="10638" y="9469"/>
                  <a:pt x="10787" y="9364"/>
                  <a:pt x="1096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89240" y="3259080"/>
            <a:ext cx="2394000" cy="1500120"/>
          </a:xfrm>
          <a:custGeom>
            <a:avLst/>
            <a:gdLst/>
            <a:ahLst/>
            <a:rect l="l" t="t" r="r" b="b"/>
            <a:pathLst>
              <a:path w="6648" h="4168">
                <a:moveTo>
                  <a:pt x="12650" y="9153"/>
                </a:moveTo>
                <a:cubicBezTo>
                  <a:pt x="12564" y="9283"/>
                  <a:pt x="12541" y="9312"/>
                  <a:pt x="12502" y="9401"/>
                </a:cubicBezTo>
                <a:cubicBezTo>
                  <a:pt x="12574" y="9257"/>
                  <a:pt x="12617" y="9172"/>
                  <a:pt x="12725" y="9054"/>
                </a:cubicBezTo>
                <a:cubicBezTo>
                  <a:pt x="12767" y="9180"/>
                  <a:pt x="12812" y="9284"/>
                  <a:pt x="12874" y="9401"/>
                </a:cubicBezTo>
              </a:path>
              <a:path w="6648" h="4168">
                <a:moveTo>
                  <a:pt x="11956" y="9649"/>
                </a:moveTo>
                <a:cubicBezTo>
                  <a:pt x="12102" y="9605"/>
                  <a:pt x="12068" y="9621"/>
                  <a:pt x="12179" y="9723"/>
                </a:cubicBezTo>
                <a:cubicBezTo>
                  <a:pt x="12098" y="9980"/>
                  <a:pt x="11978" y="9968"/>
                  <a:pt x="11708" y="9947"/>
                </a:cubicBezTo>
                <a:cubicBezTo>
                  <a:pt x="11899" y="9851"/>
                  <a:pt x="11966" y="9862"/>
                  <a:pt x="12129" y="9971"/>
                </a:cubicBezTo>
              </a:path>
              <a:path w="6648" h="4168">
                <a:moveTo>
                  <a:pt x="13097" y="9575"/>
                </a:moveTo>
                <a:cubicBezTo>
                  <a:pt x="13082" y="9688"/>
                  <a:pt x="13072" y="9784"/>
                  <a:pt x="13072" y="9897"/>
                </a:cubicBezTo>
              </a:path>
              <a:path w="6648" h="4168">
                <a:moveTo>
                  <a:pt x="13444" y="9525"/>
                </a:moveTo>
                <a:cubicBezTo>
                  <a:pt x="13359" y="9669"/>
                  <a:pt x="13341" y="9672"/>
                  <a:pt x="13395" y="9823"/>
                </a:cubicBezTo>
                <a:cubicBezTo>
                  <a:pt x="13531" y="9791"/>
                  <a:pt x="13687" y="9684"/>
                  <a:pt x="13543" y="9525"/>
                </a:cubicBezTo>
                <a:cubicBezTo>
                  <a:pt x="13518" y="9517"/>
                  <a:pt x="13494" y="9508"/>
                  <a:pt x="13469" y="9500"/>
                </a:cubicBezTo>
              </a:path>
              <a:path w="6648" h="4168">
                <a:moveTo>
                  <a:pt x="13965" y="9451"/>
                </a:moveTo>
                <a:cubicBezTo>
                  <a:pt x="13845" y="9488"/>
                  <a:pt x="13594" y="9687"/>
                  <a:pt x="13841" y="9798"/>
                </a:cubicBezTo>
                <a:cubicBezTo>
                  <a:pt x="14062" y="9897"/>
                  <a:pt x="14225" y="9720"/>
                  <a:pt x="14188" y="9550"/>
                </a:cubicBezTo>
              </a:path>
              <a:path w="6648" h="4168">
                <a:moveTo>
                  <a:pt x="14461" y="9475"/>
                </a:moveTo>
                <a:cubicBezTo>
                  <a:pt x="14376" y="9518"/>
                  <a:pt x="14286" y="9728"/>
                  <a:pt x="14461" y="9773"/>
                </a:cubicBezTo>
                <a:cubicBezTo>
                  <a:pt x="14779" y="9854"/>
                  <a:pt x="14638" y="9550"/>
                  <a:pt x="14560" y="9451"/>
                </a:cubicBezTo>
              </a:path>
              <a:path w="6648" h="4168">
                <a:moveTo>
                  <a:pt x="11609" y="9847"/>
                </a:moveTo>
                <a:cubicBezTo>
                  <a:pt x="11539" y="9952"/>
                  <a:pt x="11544" y="10062"/>
                  <a:pt x="11683" y="10120"/>
                </a:cubicBezTo>
                <a:cubicBezTo>
                  <a:pt x="11903" y="10212"/>
                  <a:pt x="12361" y="10128"/>
                  <a:pt x="12502" y="9922"/>
                </a:cubicBezTo>
                <a:cubicBezTo>
                  <a:pt x="12690" y="9647"/>
                  <a:pt x="12164" y="9410"/>
                  <a:pt x="11981" y="9401"/>
                </a:cubicBezTo>
                <a:cubicBezTo>
                  <a:pt x="11528" y="9380"/>
                  <a:pt x="11595" y="9762"/>
                  <a:pt x="11658" y="10046"/>
                </a:cubicBezTo>
              </a:path>
              <a:path w="6648" h="4168">
                <a:moveTo>
                  <a:pt x="13816" y="10071"/>
                </a:moveTo>
                <a:cubicBezTo>
                  <a:pt x="13792" y="10071"/>
                  <a:pt x="13738" y="10134"/>
                  <a:pt x="13692" y="10195"/>
                </a:cubicBezTo>
                <a:cubicBezTo>
                  <a:pt x="13791" y="10120"/>
                  <a:pt x="13824" y="10095"/>
                  <a:pt x="13866" y="10021"/>
                </a:cubicBezTo>
                <a:cubicBezTo>
                  <a:pt x="13977" y="10058"/>
                  <a:pt x="14090" y="10145"/>
                  <a:pt x="14213" y="10195"/>
                </a:cubicBezTo>
                <a:cubicBezTo>
                  <a:pt x="14238" y="10203"/>
                  <a:pt x="14263" y="10212"/>
                  <a:pt x="14288" y="10220"/>
                </a:cubicBezTo>
              </a:path>
              <a:path w="6648" h="4168">
                <a:moveTo>
                  <a:pt x="13146" y="10393"/>
                </a:moveTo>
                <a:cubicBezTo>
                  <a:pt x="13250" y="10428"/>
                  <a:pt x="13359" y="10488"/>
                  <a:pt x="13295" y="10616"/>
                </a:cubicBezTo>
                <a:cubicBezTo>
                  <a:pt x="13238" y="10730"/>
                  <a:pt x="13140" y="10708"/>
                  <a:pt x="13047" y="10691"/>
                </a:cubicBezTo>
                <a:cubicBezTo>
                  <a:pt x="13092" y="10557"/>
                  <a:pt x="13171" y="10624"/>
                  <a:pt x="13295" y="10691"/>
                </a:cubicBezTo>
              </a:path>
              <a:path w="6648" h="4168">
                <a:moveTo>
                  <a:pt x="14188" y="10418"/>
                </a:moveTo>
                <a:cubicBezTo>
                  <a:pt x="14252" y="10457"/>
                  <a:pt x="14557" y="10597"/>
                  <a:pt x="14337" y="10691"/>
                </a:cubicBezTo>
                <a:cubicBezTo>
                  <a:pt x="14304" y="10691"/>
                  <a:pt x="14271" y="10691"/>
                  <a:pt x="14238" y="10691"/>
                </a:cubicBezTo>
              </a:path>
              <a:path w="6648" h="4168">
                <a:moveTo>
                  <a:pt x="14263" y="10418"/>
                </a:moveTo>
                <a:cubicBezTo>
                  <a:pt x="14385" y="10391"/>
                  <a:pt x="14459" y="10399"/>
                  <a:pt x="14585" y="10418"/>
                </a:cubicBezTo>
              </a:path>
              <a:path w="6648" h="4168">
                <a:moveTo>
                  <a:pt x="14808" y="10368"/>
                </a:moveTo>
                <a:cubicBezTo>
                  <a:pt x="14697" y="10442"/>
                  <a:pt x="14666" y="10470"/>
                  <a:pt x="14610" y="10592"/>
                </a:cubicBezTo>
                <a:cubicBezTo>
                  <a:pt x="14813" y="10634"/>
                  <a:pt x="14933" y="10640"/>
                  <a:pt x="14932" y="10418"/>
                </a:cubicBezTo>
              </a:path>
              <a:path w="6648" h="4168">
                <a:moveTo>
                  <a:pt x="15156" y="10244"/>
                </a:moveTo>
                <a:cubicBezTo>
                  <a:pt x="15077" y="10344"/>
                  <a:pt x="14944" y="10569"/>
                  <a:pt x="15205" y="10517"/>
                </a:cubicBezTo>
                <a:cubicBezTo>
                  <a:pt x="15417" y="10475"/>
                  <a:pt x="15292" y="10359"/>
                  <a:pt x="15230" y="10269"/>
                </a:cubicBezTo>
              </a:path>
              <a:path w="6648" h="4168">
                <a:moveTo>
                  <a:pt x="12998" y="10542"/>
                </a:moveTo>
                <a:cubicBezTo>
                  <a:pt x="12915" y="10617"/>
                  <a:pt x="12910" y="10631"/>
                  <a:pt x="12874" y="10740"/>
                </a:cubicBezTo>
                <a:cubicBezTo>
                  <a:pt x="13043" y="10899"/>
                  <a:pt x="13248" y="10953"/>
                  <a:pt x="13469" y="10790"/>
                </a:cubicBezTo>
                <a:cubicBezTo>
                  <a:pt x="13727" y="10599"/>
                  <a:pt x="13558" y="10289"/>
                  <a:pt x="13295" y="10244"/>
                </a:cubicBezTo>
                <a:cubicBezTo>
                  <a:pt x="12854" y="10168"/>
                  <a:pt x="12842" y="10488"/>
                  <a:pt x="12998" y="10740"/>
                </a:cubicBezTo>
              </a:path>
              <a:path w="6648" h="4168">
                <a:moveTo>
                  <a:pt x="14709" y="10864"/>
                </a:moveTo>
                <a:cubicBezTo>
                  <a:pt x="14652" y="10948"/>
                  <a:pt x="14607" y="11026"/>
                  <a:pt x="14536" y="11088"/>
                </a:cubicBezTo>
                <a:cubicBezTo>
                  <a:pt x="14575" y="11051"/>
                  <a:pt x="14766" y="10816"/>
                  <a:pt x="14833" y="10840"/>
                </a:cubicBezTo>
                <a:cubicBezTo>
                  <a:pt x="14930" y="10875"/>
                  <a:pt x="15010" y="10992"/>
                  <a:pt x="15081" y="11063"/>
                </a:cubicBezTo>
              </a:path>
              <a:path w="6648" h="4168">
                <a:moveTo>
                  <a:pt x="14114" y="11187"/>
                </a:moveTo>
                <a:cubicBezTo>
                  <a:pt x="14001" y="11187"/>
                  <a:pt x="13946" y="11183"/>
                  <a:pt x="13915" y="11311"/>
                </a:cubicBezTo>
                <a:cubicBezTo>
                  <a:pt x="13890" y="11415"/>
                  <a:pt x="14100" y="11392"/>
                  <a:pt x="14163" y="11410"/>
                </a:cubicBezTo>
                <a:cubicBezTo>
                  <a:pt x="14125" y="11564"/>
                  <a:pt x="14124" y="11533"/>
                  <a:pt x="13965" y="11559"/>
                </a:cubicBezTo>
              </a:path>
              <a:path w="6648" h="4168">
                <a:moveTo>
                  <a:pt x="15007" y="11311"/>
                </a:moveTo>
                <a:cubicBezTo>
                  <a:pt x="15007" y="11409"/>
                  <a:pt x="14996" y="11489"/>
                  <a:pt x="14982" y="11584"/>
                </a:cubicBezTo>
              </a:path>
              <a:path w="6648" h="4168">
                <a:moveTo>
                  <a:pt x="15255" y="11286"/>
                </a:moveTo>
                <a:cubicBezTo>
                  <a:pt x="15212" y="11392"/>
                  <a:pt x="15196" y="11414"/>
                  <a:pt x="15205" y="11485"/>
                </a:cubicBezTo>
                <a:cubicBezTo>
                  <a:pt x="15373" y="11449"/>
                  <a:pt x="15396" y="11391"/>
                  <a:pt x="15280" y="11261"/>
                </a:cubicBezTo>
              </a:path>
              <a:path w="6648" h="4168">
                <a:moveTo>
                  <a:pt x="15528" y="11286"/>
                </a:moveTo>
                <a:cubicBezTo>
                  <a:pt x="15521" y="11419"/>
                  <a:pt x="15595" y="11631"/>
                  <a:pt x="15776" y="11435"/>
                </a:cubicBezTo>
                <a:cubicBezTo>
                  <a:pt x="15803" y="11329"/>
                  <a:pt x="15807" y="11290"/>
                  <a:pt x="15726" y="11237"/>
                </a:cubicBezTo>
              </a:path>
              <a:path w="6648" h="4168">
                <a:moveTo>
                  <a:pt x="13667" y="11534"/>
                </a:moveTo>
                <a:cubicBezTo>
                  <a:pt x="13701" y="11732"/>
                  <a:pt x="13732" y="11740"/>
                  <a:pt x="14039" y="11733"/>
                </a:cubicBezTo>
                <a:cubicBezTo>
                  <a:pt x="14337" y="11726"/>
                  <a:pt x="14708" y="11512"/>
                  <a:pt x="14461" y="11162"/>
                </a:cubicBezTo>
                <a:cubicBezTo>
                  <a:pt x="14266" y="10886"/>
                  <a:pt x="13767" y="10843"/>
                  <a:pt x="13618" y="11187"/>
                </a:cubicBezTo>
                <a:cubicBezTo>
                  <a:pt x="13610" y="11278"/>
                  <a:pt x="13601" y="11369"/>
                  <a:pt x="13593" y="11460"/>
                </a:cubicBezTo>
              </a:path>
              <a:path w="6648" h="4168">
                <a:moveTo>
                  <a:pt x="15354" y="11757"/>
                </a:moveTo>
                <a:cubicBezTo>
                  <a:pt x="15291" y="11842"/>
                  <a:pt x="15279" y="11863"/>
                  <a:pt x="15230" y="11906"/>
                </a:cubicBezTo>
                <a:cubicBezTo>
                  <a:pt x="15301" y="11777"/>
                  <a:pt x="15309" y="11673"/>
                  <a:pt x="15429" y="11733"/>
                </a:cubicBezTo>
                <a:cubicBezTo>
                  <a:pt x="15512" y="11774"/>
                  <a:pt x="15593" y="11798"/>
                  <a:pt x="15677" y="11832"/>
                </a:cubicBezTo>
              </a:path>
              <a:path w="6648" h="4168">
                <a:moveTo>
                  <a:pt x="14858" y="12055"/>
                </a:moveTo>
                <a:cubicBezTo>
                  <a:pt x="14858" y="12114"/>
                  <a:pt x="14855" y="12140"/>
                  <a:pt x="14833" y="12179"/>
                </a:cubicBezTo>
                <a:cubicBezTo>
                  <a:pt x="14876" y="12179"/>
                  <a:pt x="15084" y="12167"/>
                  <a:pt x="15007" y="12278"/>
                </a:cubicBezTo>
                <a:cubicBezTo>
                  <a:pt x="14950" y="12306"/>
                  <a:pt x="14927" y="12317"/>
                  <a:pt x="14883" y="12328"/>
                </a:cubicBezTo>
              </a:path>
              <a:path w="6648" h="4168">
                <a:moveTo>
                  <a:pt x="14908" y="12080"/>
                </a:moveTo>
                <a:cubicBezTo>
                  <a:pt x="14949" y="12072"/>
                  <a:pt x="14991" y="12063"/>
                  <a:pt x="15032" y="12055"/>
                </a:cubicBezTo>
              </a:path>
              <a:path w="6648" h="4168">
                <a:moveTo>
                  <a:pt x="15751" y="12080"/>
                </a:moveTo>
                <a:cubicBezTo>
                  <a:pt x="15862" y="12024"/>
                  <a:pt x="15879" y="12079"/>
                  <a:pt x="15925" y="12179"/>
                </a:cubicBezTo>
                <a:cubicBezTo>
                  <a:pt x="15786" y="12249"/>
                  <a:pt x="15773" y="12247"/>
                  <a:pt x="15627" y="12204"/>
                </a:cubicBezTo>
                <a:cubicBezTo>
                  <a:pt x="15732" y="12183"/>
                  <a:pt x="15797" y="12216"/>
                  <a:pt x="15900" y="12254"/>
                </a:cubicBezTo>
              </a:path>
              <a:path w="6648" h="4168">
                <a:moveTo>
                  <a:pt x="16197" y="12005"/>
                </a:moveTo>
                <a:cubicBezTo>
                  <a:pt x="16190" y="12126"/>
                  <a:pt x="16244" y="12330"/>
                  <a:pt x="16421" y="12179"/>
                </a:cubicBezTo>
                <a:cubicBezTo>
                  <a:pt x="16449" y="12096"/>
                  <a:pt x="16451" y="12065"/>
                  <a:pt x="16371" y="12030"/>
                </a:cubicBezTo>
              </a:path>
              <a:path w="6648" h="4168">
                <a:moveTo>
                  <a:pt x="14536" y="12154"/>
                </a:moveTo>
                <a:cubicBezTo>
                  <a:pt x="14606" y="12394"/>
                  <a:pt x="14808" y="12493"/>
                  <a:pt x="15081" y="12477"/>
                </a:cubicBezTo>
                <a:cubicBezTo>
                  <a:pt x="15351" y="12461"/>
                  <a:pt x="15527" y="12185"/>
                  <a:pt x="15329" y="11956"/>
                </a:cubicBezTo>
                <a:cubicBezTo>
                  <a:pt x="15035" y="11616"/>
                  <a:pt x="14704" y="11996"/>
                  <a:pt x="14560" y="12204"/>
                </a:cubicBezTo>
              </a:path>
              <a:path w="6648" h="4168">
                <a:moveTo>
                  <a:pt x="16024" y="12402"/>
                </a:moveTo>
                <a:cubicBezTo>
                  <a:pt x="15986" y="12479"/>
                  <a:pt x="15987" y="12495"/>
                  <a:pt x="15949" y="12526"/>
                </a:cubicBezTo>
                <a:cubicBezTo>
                  <a:pt x="15993" y="12469"/>
                  <a:pt x="16041" y="12427"/>
                  <a:pt x="16098" y="12378"/>
                </a:cubicBezTo>
                <a:cubicBezTo>
                  <a:pt x="16189" y="12495"/>
                  <a:pt x="16150" y="12490"/>
                  <a:pt x="16272" y="12502"/>
                </a:cubicBezTo>
              </a:path>
              <a:path w="6648" h="4168">
                <a:moveTo>
                  <a:pt x="15726" y="12700"/>
                </a:moveTo>
                <a:cubicBezTo>
                  <a:pt x="15701" y="12692"/>
                  <a:pt x="15677" y="12683"/>
                  <a:pt x="15652" y="12675"/>
                </a:cubicBezTo>
              </a:path>
              <a:path w="6648" h="4168">
                <a:moveTo>
                  <a:pt x="15577" y="12700"/>
                </a:moveTo>
                <a:cubicBezTo>
                  <a:pt x="15648" y="12700"/>
                  <a:pt x="15681" y="12704"/>
                  <a:pt x="15751" y="12725"/>
                </a:cubicBezTo>
                <a:cubicBezTo>
                  <a:pt x="15706" y="12699"/>
                  <a:pt x="15589" y="12641"/>
                  <a:pt x="15528" y="12675"/>
                </a:cubicBezTo>
                <a:cubicBezTo>
                  <a:pt x="15489" y="12714"/>
                  <a:pt x="15472" y="12716"/>
                  <a:pt x="15478" y="12750"/>
                </a:cubicBezTo>
                <a:cubicBezTo>
                  <a:pt x="15492" y="12767"/>
                  <a:pt x="15694" y="12881"/>
                  <a:pt x="15652" y="12923"/>
                </a:cubicBezTo>
                <a:cubicBezTo>
                  <a:pt x="15596" y="12980"/>
                  <a:pt x="15484" y="12992"/>
                  <a:pt x="15429" y="12973"/>
                </a:cubicBezTo>
              </a:path>
              <a:path w="6648" h="4168">
                <a:moveTo>
                  <a:pt x="15180" y="13022"/>
                </a:moveTo>
                <a:cubicBezTo>
                  <a:pt x="15345" y="13174"/>
                  <a:pt x="15552" y="13190"/>
                  <a:pt x="15776" y="13097"/>
                </a:cubicBezTo>
                <a:cubicBezTo>
                  <a:pt x="15989" y="13008"/>
                  <a:pt x="16010" y="12889"/>
                  <a:pt x="16049" y="12700"/>
                </a:cubicBezTo>
                <a:cubicBezTo>
                  <a:pt x="15868" y="12530"/>
                  <a:pt x="15520" y="12351"/>
                  <a:pt x="15255" y="12551"/>
                </a:cubicBezTo>
                <a:cubicBezTo>
                  <a:pt x="15156" y="12724"/>
                  <a:pt x="15123" y="12782"/>
                  <a:pt x="15156" y="12923"/>
                </a:cubicBezTo>
              </a:path>
              <a:path w="6648" h="4168">
                <a:moveTo>
                  <a:pt x="16446" y="12626"/>
                </a:moveTo>
                <a:cubicBezTo>
                  <a:pt x="16428" y="12717"/>
                  <a:pt x="16419" y="12724"/>
                  <a:pt x="16421" y="12774"/>
                </a:cubicBezTo>
              </a:path>
              <a:path w="6648" h="4168">
                <a:moveTo>
                  <a:pt x="16421" y="12774"/>
                </a:moveTo>
                <a:lnTo>
                  <a:pt x="16421" y="12774"/>
                </a:lnTo>
              </a:path>
              <a:path w="6648" h="4168">
                <a:moveTo>
                  <a:pt x="16371" y="12502"/>
                </a:moveTo>
                <a:cubicBezTo>
                  <a:pt x="16351" y="12560"/>
                  <a:pt x="16331" y="12616"/>
                  <a:pt x="16321" y="12675"/>
                </a:cubicBezTo>
                <a:cubicBezTo>
                  <a:pt x="16376" y="12693"/>
                  <a:pt x="16446" y="12680"/>
                  <a:pt x="16520" y="12675"/>
                </a:cubicBezTo>
              </a:path>
              <a:path w="6648" h="4168">
                <a:moveTo>
                  <a:pt x="16594" y="12477"/>
                </a:moveTo>
                <a:cubicBezTo>
                  <a:pt x="16519" y="12608"/>
                  <a:pt x="16443" y="12723"/>
                  <a:pt x="16421" y="12874"/>
                </a:cubicBezTo>
              </a:path>
              <a:path w="6648" h="4168">
                <a:moveTo>
                  <a:pt x="16768" y="12750"/>
                </a:moveTo>
                <a:cubicBezTo>
                  <a:pt x="16793" y="12800"/>
                  <a:pt x="16840" y="12952"/>
                  <a:pt x="16867" y="12898"/>
                </a:cubicBezTo>
                <a:cubicBezTo>
                  <a:pt x="16851" y="12807"/>
                  <a:pt x="16820" y="12717"/>
                  <a:pt x="16793" y="12626"/>
                </a:cubicBezTo>
                <a:cubicBezTo>
                  <a:pt x="16901" y="12634"/>
                  <a:pt x="17006" y="12650"/>
                  <a:pt x="17115" y="12650"/>
                </a:cubicBezTo>
              </a:path>
              <a:path w="6648" h="4168">
                <a:moveTo>
                  <a:pt x="17066" y="12898"/>
                </a:moveTo>
                <a:cubicBezTo>
                  <a:pt x="17139" y="12910"/>
                  <a:pt x="17218" y="12936"/>
                  <a:pt x="17190" y="13047"/>
                </a:cubicBezTo>
                <a:cubicBezTo>
                  <a:pt x="17145" y="13227"/>
                  <a:pt x="16993" y="13115"/>
                  <a:pt x="16917" y="13047"/>
                </a:cubicBezTo>
                <a:cubicBezTo>
                  <a:pt x="17048" y="13004"/>
                  <a:pt x="17035" y="13004"/>
                  <a:pt x="17165" y="13047"/>
                </a:cubicBezTo>
              </a:path>
              <a:path w="6648" h="4168">
                <a:moveTo>
                  <a:pt x="17462" y="12551"/>
                </a:moveTo>
                <a:cubicBezTo>
                  <a:pt x="17540" y="12500"/>
                  <a:pt x="17569" y="12484"/>
                  <a:pt x="17636" y="12526"/>
                </a:cubicBezTo>
                <a:cubicBezTo>
                  <a:pt x="17625" y="12660"/>
                  <a:pt x="17601" y="12745"/>
                  <a:pt x="17438" y="12725"/>
                </a:cubicBezTo>
                <a:cubicBezTo>
                  <a:pt x="17330" y="12712"/>
                  <a:pt x="17519" y="12733"/>
                  <a:pt x="17587" y="12774"/>
                </a:cubicBezTo>
              </a:path>
              <a:path w="6648" h="4168">
                <a:moveTo>
                  <a:pt x="17314" y="12824"/>
                </a:moveTo>
                <a:cubicBezTo>
                  <a:pt x="17514" y="12856"/>
                  <a:pt x="17704" y="12888"/>
                  <a:pt x="17859" y="12725"/>
                </a:cubicBezTo>
                <a:cubicBezTo>
                  <a:pt x="18058" y="12516"/>
                  <a:pt x="17778" y="12282"/>
                  <a:pt x="17562" y="12278"/>
                </a:cubicBezTo>
                <a:cubicBezTo>
                  <a:pt x="17336" y="12274"/>
                  <a:pt x="17340" y="12451"/>
                  <a:pt x="17314" y="12601"/>
                </a:cubicBezTo>
              </a:path>
              <a:path w="6648" h="4168">
                <a:moveTo>
                  <a:pt x="16966" y="13097"/>
                </a:moveTo>
                <a:cubicBezTo>
                  <a:pt x="16924" y="13271"/>
                  <a:pt x="17116" y="13215"/>
                  <a:pt x="17239" y="13196"/>
                </a:cubicBezTo>
                <a:cubicBezTo>
                  <a:pt x="17390" y="13173"/>
                  <a:pt x="17539" y="12966"/>
                  <a:pt x="17388" y="12824"/>
                </a:cubicBezTo>
                <a:cubicBezTo>
                  <a:pt x="17202" y="12650"/>
                  <a:pt x="16866" y="12714"/>
                  <a:pt x="16842" y="12998"/>
                </a:cubicBezTo>
                <a:cubicBezTo>
                  <a:pt x="16859" y="13056"/>
                  <a:pt x="16875" y="13113"/>
                  <a:pt x="16892" y="13171"/>
                </a:cubicBezTo>
              </a:path>
              <a:path w="6648" h="4168">
                <a:moveTo>
                  <a:pt x="11361" y="10145"/>
                </a:moveTo>
                <a:cubicBezTo>
                  <a:pt x="11448" y="10233"/>
                  <a:pt x="11489" y="10248"/>
                  <a:pt x="11609" y="10170"/>
                </a:cubicBezTo>
                <a:cubicBezTo>
                  <a:pt x="11766" y="10068"/>
                  <a:pt x="11800" y="10023"/>
                  <a:pt x="11981" y="9996"/>
                </a:cubicBezTo>
              </a:path>
              <a:path w="6648" h="4168">
                <a:moveTo>
                  <a:pt x="12626" y="10666"/>
                </a:moveTo>
                <a:cubicBezTo>
                  <a:pt x="12649" y="10714"/>
                  <a:pt x="12657" y="10729"/>
                  <a:pt x="12650" y="10765"/>
                </a:cubicBezTo>
                <a:cubicBezTo>
                  <a:pt x="12813" y="10747"/>
                  <a:pt x="12919" y="10640"/>
                  <a:pt x="13047" y="10542"/>
                </a:cubicBezTo>
              </a:path>
              <a:path w="6648" h="4168">
                <a:moveTo>
                  <a:pt x="16917" y="12601"/>
                </a:moveTo>
                <a:cubicBezTo>
                  <a:pt x="16979" y="12569"/>
                  <a:pt x="16995" y="12576"/>
                  <a:pt x="16966" y="12675"/>
                </a:cubicBezTo>
                <a:cubicBezTo>
                  <a:pt x="17115" y="12690"/>
                  <a:pt x="17200" y="12582"/>
                  <a:pt x="17314" y="12477"/>
                </a:cubicBezTo>
              </a:path>
              <a:path w="6648" h="4168">
                <a:moveTo>
                  <a:pt x="17562" y="12154"/>
                </a:moveTo>
                <a:cubicBezTo>
                  <a:pt x="17600" y="12279"/>
                  <a:pt x="17633" y="12303"/>
                  <a:pt x="17760" y="12229"/>
                </a:cubicBezTo>
                <a:cubicBezTo>
                  <a:pt x="17898" y="12136"/>
                  <a:pt x="17938" y="12112"/>
                  <a:pt x="1800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75200" y="4964040"/>
            <a:ext cx="2751120" cy="1573200"/>
          </a:xfrm>
          <a:custGeom>
            <a:avLst/>
            <a:gdLst/>
            <a:ahLst/>
            <a:rect l="l" t="t" r="r" b="b"/>
            <a:pathLst>
              <a:path w="7641" h="4367">
                <a:moveTo>
                  <a:pt x="18579" y="13841"/>
                </a:moveTo>
                <a:cubicBezTo>
                  <a:pt x="18521" y="13941"/>
                  <a:pt x="18461" y="14038"/>
                  <a:pt x="18405" y="14139"/>
                </a:cubicBezTo>
                <a:cubicBezTo>
                  <a:pt x="18489" y="14013"/>
                  <a:pt x="18560" y="13882"/>
                  <a:pt x="18678" y="13791"/>
                </a:cubicBezTo>
                <a:cubicBezTo>
                  <a:pt x="18791" y="13879"/>
                  <a:pt x="18810" y="13969"/>
                  <a:pt x="18876" y="14089"/>
                </a:cubicBezTo>
                <a:cubicBezTo>
                  <a:pt x="18884" y="14097"/>
                  <a:pt x="18893" y="14106"/>
                  <a:pt x="18901" y="14114"/>
                </a:cubicBezTo>
              </a:path>
              <a:path w="7641" h="4367">
                <a:moveTo>
                  <a:pt x="18331" y="14387"/>
                </a:moveTo>
                <a:cubicBezTo>
                  <a:pt x="18224" y="14406"/>
                  <a:pt x="18014" y="14448"/>
                  <a:pt x="17959" y="14560"/>
                </a:cubicBezTo>
                <a:cubicBezTo>
                  <a:pt x="17959" y="14585"/>
                  <a:pt x="17959" y="14610"/>
                  <a:pt x="17959" y="14635"/>
                </a:cubicBezTo>
                <a:cubicBezTo>
                  <a:pt x="18080" y="14711"/>
                  <a:pt x="18200" y="14772"/>
                  <a:pt x="18331" y="14833"/>
                </a:cubicBezTo>
                <a:cubicBezTo>
                  <a:pt x="18299" y="14883"/>
                  <a:pt x="18068" y="15087"/>
                  <a:pt x="18083" y="14883"/>
                </a:cubicBezTo>
                <a:cubicBezTo>
                  <a:pt x="18095" y="14719"/>
                  <a:pt x="18228" y="14620"/>
                  <a:pt x="18331" y="14511"/>
                </a:cubicBezTo>
              </a:path>
              <a:path w="7641" h="4367">
                <a:moveTo>
                  <a:pt x="19273" y="14238"/>
                </a:moveTo>
                <a:cubicBezTo>
                  <a:pt x="19186" y="14273"/>
                  <a:pt x="19066" y="14408"/>
                  <a:pt x="19050" y="14511"/>
                </a:cubicBezTo>
                <a:cubicBezTo>
                  <a:pt x="19033" y="14620"/>
                  <a:pt x="19256" y="14694"/>
                  <a:pt x="19323" y="14734"/>
                </a:cubicBezTo>
                <a:cubicBezTo>
                  <a:pt x="19287" y="14870"/>
                  <a:pt x="19287" y="14869"/>
                  <a:pt x="19149" y="14932"/>
                </a:cubicBezTo>
                <a:cubicBezTo>
                  <a:pt x="19135" y="14744"/>
                  <a:pt x="19206" y="14631"/>
                  <a:pt x="19298" y="14461"/>
                </a:cubicBezTo>
              </a:path>
              <a:path w="7641" h="4367">
                <a:moveTo>
                  <a:pt x="18107" y="15180"/>
                </a:moveTo>
                <a:cubicBezTo>
                  <a:pt x="17998" y="15319"/>
                  <a:pt x="17894" y="15510"/>
                  <a:pt x="17760" y="15627"/>
                </a:cubicBezTo>
                <a:cubicBezTo>
                  <a:pt x="17768" y="15610"/>
                  <a:pt x="17777" y="15594"/>
                  <a:pt x="17785" y="15577"/>
                </a:cubicBezTo>
                <a:cubicBezTo>
                  <a:pt x="17902" y="15445"/>
                  <a:pt x="17999" y="15318"/>
                  <a:pt x="18107" y="15180"/>
                </a:cubicBezTo>
                <a:cubicBezTo>
                  <a:pt x="18185" y="15302"/>
                  <a:pt x="18258" y="15419"/>
                  <a:pt x="18355" y="15528"/>
                </a:cubicBezTo>
              </a:path>
              <a:path w="7641" h="4367">
                <a:moveTo>
                  <a:pt x="16917" y="15677"/>
                </a:moveTo>
                <a:cubicBezTo>
                  <a:pt x="17013" y="15604"/>
                  <a:pt x="17097" y="15717"/>
                  <a:pt x="17090" y="15825"/>
                </a:cubicBezTo>
                <a:cubicBezTo>
                  <a:pt x="17076" y="16055"/>
                  <a:pt x="16913" y="16108"/>
                  <a:pt x="16743" y="16049"/>
                </a:cubicBezTo>
                <a:cubicBezTo>
                  <a:pt x="16799" y="15878"/>
                  <a:pt x="16902" y="15871"/>
                  <a:pt x="17066" y="15974"/>
                </a:cubicBezTo>
                <a:cubicBezTo>
                  <a:pt x="17082" y="15991"/>
                  <a:pt x="17099" y="16007"/>
                  <a:pt x="17115" y="16024"/>
                </a:cubicBezTo>
              </a:path>
              <a:path w="7641" h="4367">
                <a:moveTo>
                  <a:pt x="18256" y="15751"/>
                </a:moveTo>
                <a:cubicBezTo>
                  <a:pt x="18230" y="15904"/>
                  <a:pt x="18204" y="16058"/>
                  <a:pt x="18430" y="15974"/>
                </a:cubicBezTo>
                <a:cubicBezTo>
                  <a:pt x="18471" y="15949"/>
                  <a:pt x="18513" y="15925"/>
                  <a:pt x="18554" y="15900"/>
                </a:cubicBezTo>
              </a:path>
              <a:path w="7641" h="4367">
                <a:moveTo>
                  <a:pt x="18504" y="15652"/>
                </a:moveTo>
                <a:cubicBezTo>
                  <a:pt x="18480" y="15818"/>
                  <a:pt x="18450" y="15975"/>
                  <a:pt x="18380" y="16123"/>
                </a:cubicBezTo>
              </a:path>
              <a:path w="7641" h="4367">
                <a:moveTo>
                  <a:pt x="16446" y="16222"/>
                </a:moveTo>
                <a:cubicBezTo>
                  <a:pt x="16483" y="16431"/>
                  <a:pt x="16587" y="16530"/>
                  <a:pt x="16818" y="16520"/>
                </a:cubicBezTo>
                <a:cubicBezTo>
                  <a:pt x="17130" y="16507"/>
                  <a:pt x="17418" y="16272"/>
                  <a:pt x="17413" y="15949"/>
                </a:cubicBezTo>
                <a:cubicBezTo>
                  <a:pt x="17407" y="15539"/>
                  <a:pt x="16852" y="15491"/>
                  <a:pt x="16570" y="15627"/>
                </a:cubicBezTo>
                <a:cubicBezTo>
                  <a:pt x="16111" y="15849"/>
                  <a:pt x="16378" y="16291"/>
                  <a:pt x="16570" y="16570"/>
                </a:cubicBezTo>
              </a:path>
              <a:path w="7641" h="4367">
                <a:moveTo>
                  <a:pt x="18256" y="16346"/>
                </a:moveTo>
                <a:cubicBezTo>
                  <a:pt x="18195" y="16567"/>
                  <a:pt x="18105" y="16726"/>
                  <a:pt x="17983" y="16917"/>
                </a:cubicBezTo>
                <a:cubicBezTo>
                  <a:pt x="17975" y="16933"/>
                  <a:pt x="17967" y="16950"/>
                  <a:pt x="17959" y="16966"/>
                </a:cubicBezTo>
                <a:cubicBezTo>
                  <a:pt x="18094" y="16763"/>
                  <a:pt x="18189" y="16496"/>
                  <a:pt x="18380" y="16346"/>
                </a:cubicBezTo>
                <a:cubicBezTo>
                  <a:pt x="18491" y="16457"/>
                  <a:pt x="18539" y="16558"/>
                  <a:pt x="18554" y="16718"/>
                </a:cubicBezTo>
                <a:cubicBezTo>
                  <a:pt x="18554" y="16726"/>
                  <a:pt x="18554" y="16735"/>
                  <a:pt x="18554" y="16743"/>
                </a:cubicBezTo>
              </a:path>
              <a:path w="7641" h="4367">
                <a:moveTo>
                  <a:pt x="17686" y="17214"/>
                </a:moveTo>
                <a:cubicBezTo>
                  <a:pt x="17801" y="17207"/>
                  <a:pt x="18029" y="17223"/>
                  <a:pt x="17934" y="17413"/>
                </a:cubicBezTo>
                <a:cubicBezTo>
                  <a:pt x="17833" y="17539"/>
                  <a:pt x="17798" y="17581"/>
                  <a:pt x="17686" y="17611"/>
                </a:cubicBezTo>
                <a:cubicBezTo>
                  <a:pt x="17628" y="17611"/>
                  <a:pt x="17603" y="17628"/>
                  <a:pt x="17611" y="17587"/>
                </a:cubicBezTo>
                <a:cubicBezTo>
                  <a:pt x="17765" y="17433"/>
                  <a:pt x="17817" y="17429"/>
                  <a:pt x="18033" y="17487"/>
                </a:cubicBezTo>
              </a:path>
              <a:path w="7641" h="4367">
                <a:moveTo>
                  <a:pt x="18827" y="17090"/>
                </a:moveTo>
                <a:cubicBezTo>
                  <a:pt x="18922" y="17130"/>
                  <a:pt x="19078" y="17199"/>
                  <a:pt x="18976" y="17338"/>
                </a:cubicBezTo>
                <a:cubicBezTo>
                  <a:pt x="18900" y="17441"/>
                  <a:pt x="18803" y="17431"/>
                  <a:pt x="18703" y="17413"/>
                </a:cubicBezTo>
                <a:cubicBezTo>
                  <a:pt x="18748" y="17307"/>
                  <a:pt x="18861" y="17318"/>
                  <a:pt x="18951" y="17413"/>
                </a:cubicBezTo>
                <a:cubicBezTo>
                  <a:pt x="18959" y="17429"/>
                  <a:pt x="18968" y="17446"/>
                  <a:pt x="18976" y="17462"/>
                </a:cubicBezTo>
              </a:path>
              <a:path w="7641" h="4367">
                <a:moveTo>
                  <a:pt x="18703" y="17711"/>
                </a:moveTo>
                <a:cubicBezTo>
                  <a:pt x="18919" y="17720"/>
                  <a:pt x="19223" y="17687"/>
                  <a:pt x="19372" y="17487"/>
                </a:cubicBezTo>
                <a:cubicBezTo>
                  <a:pt x="19523" y="17283"/>
                  <a:pt x="19406" y="16864"/>
                  <a:pt x="19124" y="16842"/>
                </a:cubicBezTo>
                <a:cubicBezTo>
                  <a:pt x="18747" y="16812"/>
                  <a:pt x="18442" y="17216"/>
                  <a:pt x="18604" y="17562"/>
                </a:cubicBezTo>
                <a:cubicBezTo>
                  <a:pt x="18653" y="17612"/>
                  <a:pt x="18703" y="17661"/>
                  <a:pt x="18752" y="17711"/>
                </a:cubicBezTo>
              </a:path>
              <a:path w="7641" h="4367">
                <a:moveTo>
                  <a:pt x="17686" y="18157"/>
                </a:moveTo>
                <a:cubicBezTo>
                  <a:pt x="17941" y="18136"/>
                  <a:pt x="18180" y="18074"/>
                  <a:pt x="18331" y="17835"/>
                </a:cubicBezTo>
                <a:cubicBezTo>
                  <a:pt x="18499" y="17570"/>
                  <a:pt x="18411" y="17183"/>
                  <a:pt x="18033" y="17214"/>
                </a:cubicBezTo>
                <a:cubicBezTo>
                  <a:pt x="17740" y="17238"/>
                  <a:pt x="17004" y="17668"/>
                  <a:pt x="17314" y="18058"/>
                </a:cubicBezTo>
                <a:cubicBezTo>
                  <a:pt x="17388" y="18091"/>
                  <a:pt x="17463" y="18124"/>
                  <a:pt x="17537" y="18157"/>
                </a:cubicBezTo>
              </a:path>
              <a:path w="7641" h="4367">
                <a:moveTo>
                  <a:pt x="19174" y="15280"/>
                </a:moveTo>
                <a:cubicBezTo>
                  <a:pt x="19184" y="15323"/>
                  <a:pt x="19199" y="15576"/>
                  <a:pt x="19199" y="15453"/>
                </a:cubicBezTo>
                <a:cubicBezTo>
                  <a:pt x="19199" y="15289"/>
                  <a:pt x="19219" y="15143"/>
                  <a:pt x="19248" y="14982"/>
                </a:cubicBezTo>
                <a:cubicBezTo>
                  <a:pt x="19429" y="15027"/>
                  <a:pt x="19564" y="15129"/>
                  <a:pt x="19745" y="15180"/>
                </a:cubicBezTo>
              </a:path>
              <a:path w="7641" h="4367">
                <a:moveTo>
                  <a:pt x="19323" y="15825"/>
                </a:moveTo>
                <a:cubicBezTo>
                  <a:pt x="19464" y="15761"/>
                  <a:pt x="19620" y="15803"/>
                  <a:pt x="19472" y="15974"/>
                </a:cubicBezTo>
                <a:cubicBezTo>
                  <a:pt x="19372" y="16049"/>
                  <a:pt x="19338" y="16074"/>
                  <a:pt x="19248" y="16024"/>
                </a:cubicBezTo>
                <a:cubicBezTo>
                  <a:pt x="19337" y="15891"/>
                  <a:pt x="19379" y="15908"/>
                  <a:pt x="19546" y="15974"/>
                </a:cubicBezTo>
              </a:path>
              <a:path w="7641" h="4367">
                <a:moveTo>
                  <a:pt x="20017" y="15131"/>
                </a:moveTo>
                <a:cubicBezTo>
                  <a:pt x="20017" y="15174"/>
                  <a:pt x="19999" y="15347"/>
                  <a:pt x="20117" y="15304"/>
                </a:cubicBezTo>
                <a:cubicBezTo>
                  <a:pt x="20150" y="15279"/>
                  <a:pt x="20183" y="15255"/>
                  <a:pt x="20216" y="15230"/>
                </a:cubicBezTo>
              </a:path>
              <a:path w="7641" h="4367">
                <a:moveTo>
                  <a:pt x="20166" y="14883"/>
                </a:moveTo>
                <a:cubicBezTo>
                  <a:pt x="20192" y="15139"/>
                  <a:pt x="20201" y="15230"/>
                  <a:pt x="20216" y="15404"/>
                </a:cubicBezTo>
              </a:path>
              <a:path w="7641" h="4367">
                <a:moveTo>
                  <a:pt x="19149" y="16222"/>
                </a:moveTo>
                <a:cubicBezTo>
                  <a:pt x="19233" y="16402"/>
                  <a:pt x="19389" y="16477"/>
                  <a:pt x="19596" y="16346"/>
                </a:cubicBezTo>
                <a:cubicBezTo>
                  <a:pt x="19809" y="16211"/>
                  <a:pt x="19951" y="15820"/>
                  <a:pt x="19695" y="15652"/>
                </a:cubicBezTo>
                <a:cubicBezTo>
                  <a:pt x="19344" y="15422"/>
                  <a:pt x="18852" y="15583"/>
                  <a:pt x="18852" y="16049"/>
                </a:cubicBezTo>
                <a:cubicBezTo>
                  <a:pt x="18945" y="16304"/>
                  <a:pt x="18962" y="16385"/>
                  <a:pt x="19149" y="16446"/>
                </a:cubicBezTo>
              </a:path>
              <a:path w="7641" h="4367">
                <a:moveTo>
                  <a:pt x="20290" y="15677"/>
                </a:moveTo>
                <a:cubicBezTo>
                  <a:pt x="20318" y="15786"/>
                  <a:pt x="20333" y="15887"/>
                  <a:pt x="20365" y="15999"/>
                </a:cubicBezTo>
                <a:cubicBezTo>
                  <a:pt x="20395" y="15844"/>
                  <a:pt x="20389" y="15688"/>
                  <a:pt x="20389" y="15528"/>
                </a:cubicBezTo>
                <a:cubicBezTo>
                  <a:pt x="20389" y="15511"/>
                  <a:pt x="20389" y="15495"/>
                  <a:pt x="20389" y="15478"/>
                </a:cubicBezTo>
                <a:cubicBezTo>
                  <a:pt x="20584" y="15517"/>
                  <a:pt x="20750" y="15569"/>
                  <a:pt x="20960" y="15577"/>
                </a:cubicBezTo>
              </a:path>
              <a:path w="7641" h="4367">
                <a:moveTo>
                  <a:pt x="20489" y="16421"/>
                </a:moveTo>
                <a:cubicBezTo>
                  <a:pt x="20558" y="16374"/>
                  <a:pt x="20578" y="16353"/>
                  <a:pt x="20613" y="16421"/>
                </a:cubicBezTo>
                <a:cubicBezTo>
                  <a:pt x="20652" y="16569"/>
                  <a:pt x="20629" y="16754"/>
                  <a:pt x="20414" y="16768"/>
                </a:cubicBezTo>
                <a:cubicBezTo>
                  <a:pt x="20389" y="16760"/>
                  <a:pt x="20365" y="16751"/>
                  <a:pt x="20340" y="16743"/>
                </a:cubicBezTo>
                <a:cubicBezTo>
                  <a:pt x="20425" y="16573"/>
                  <a:pt x="20469" y="16578"/>
                  <a:pt x="20638" y="16669"/>
                </a:cubicBezTo>
              </a:path>
              <a:path w="7641" h="4367">
                <a:moveTo>
                  <a:pt x="21158" y="15478"/>
                </a:moveTo>
                <a:cubicBezTo>
                  <a:pt x="21117" y="15478"/>
                  <a:pt x="21101" y="15486"/>
                  <a:pt x="21109" y="15453"/>
                </a:cubicBezTo>
                <a:cubicBezTo>
                  <a:pt x="21288" y="15454"/>
                  <a:pt x="21322" y="15607"/>
                  <a:pt x="21233" y="15776"/>
                </a:cubicBezTo>
                <a:cubicBezTo>
                  <a:pt x="21162" y="15910"/>
                  <a:pt x="20991" y="15841"/>
                  <a:pt x="21282" y="15825"/>
                </a:cubicBezTo>
              </a:path>
              <a:path w="7641" h="4367">
                <a:moveTo>
                  <a:pt x="21208" y="16049"/>
                </a:moveTo>
                <a:cubicBezTo>
                  <a:pt x="21500" y="15926"/>
                  <a:pt x="21777" y="15826"/>
                  <a:pt x="21679" y="15429"/>
                </a:cubicBezTo>
                <a:cubicBezTo>
                  <a:pt x="21586" y="15053"/>
                  <a:pt x="20917" y="14898"/>
                  <a:pt x="20836" y="15379"/>
                </a:cubicBezTo>
                <a:cubicBezTo>
                  <a:pt x="20906" y="15708"/>
                  <a:pt x="20917" y="15811"/>
                  <a:pt x="21134" y="15925"/>
                </a:cubicBezTo>
              </a:path>
              <a:path w="7641" h="4367">
                <a:moveTo>
                  <a:pt x="20389" y="17115"/>
                </a:moveTo>
                <a:cubicBezTo>
                  <a:pt x="20616" y="17148"/>
                  <a:pt x="20792" y="17159"/>
                  <a:pt x="20960" y="16966"/>
                </a:cubicBezTo>
                <a:cubicBezTo>
                  <a:pt x="21198" y="16693"/>
                  <a:pt x="21243" y="16283"/>
                  <a:pt x="20861" y="16098"/>
                </a:cubicBezTo>
                <a:cubicBezTo>
                  <a:pt x="20397" y="15874"/>
                  <a:pt x="19887" y="16359"/>
                  <a:pt x="20117" y="16842"/>
                </a:cubicBezTo>
                <a:cubicBezTo>
                  <a:pt x="20191" y="16900"/>
                  <a:pt x="20266" y="16958"/>
                  <a:pt x="20340" y="17016"/>
                </a:cubicBezTo>
              </a:path>
              <a:path w="7641" h="4367">
                <a:moveTo>
                  <a:pt x="22498" y="16073"/>
                </a:moveTo>
                <a:cubicBezTo>
                  <a:pt x="22445" y="16251"/>
                  <a:pt x="22490" y="16104"/>
                  <a:pt x="22622" y="16098"/>
                </a:cubicBezTo>
                <a:cubicBezTo>
                  <a:pt x="22902" y="16084"/>
                  <a:pt x="22922" y="16518"/>
                  <a:pt x="22771" y="16669"/>
                </a:cubicBezTo>
                <a:cubicBezTo>
                  <a:pt x="22547" y="16804"/>
                  <a:pt x="22492" y="16846"/>
                  <a:pt x="22324" y="16867"/>
                </a:cubicBezTo>
                <a:cubicBezTo>
                  <a:pt x="22345" y="16614"/>
                  <a:pt x="22597" y="16552"/>
                  <a:pt x="22845" y="16619"/>
                </a:cubicBezTo>
                <a:cubicBezTo>
                  <a:pt x="22930" y="16683"/>
                  <a:pt x="22950" y="16695"/>
                  <a:pt x="22994" y="16743"/>
                </a:cubicBezTo>
              </a:path>
              <a:path w="7641" h="4367">
                <a:moveTo>
                  <a:pt x="16842" y="16644"/>
                </a:moveTo>
                <a:cubicBezTo>
                  <a:pt x="16868" y="16565"/>
                  <a:pt x="16866" y="16653"/>
                  <a:pt x="16917" y="16718"/>
                </a:cubicBezTo>
                <a:cubicBezTo>
                  <a:pt x="17044" y="16660"/>
                  <a:pt x="17115" y="16560"/>
                  <a:pt x="17214" y="16446"/>
                </a:cubicBezTo>
              </a:path>
              <a:path w="7641" h="4367">
                <a:moveTo>
                  <a:pt x="17165" y="17735"/>
                </a:moveTo>
                <a:cubicBezTo>
                  <a:pt x="17165" y="17923"/>
                  <a:pt x="17551" y="17497"/>
                  <a:pt x="17562" y="17487"/>
                </a:cubicBezTo>
              </a:path>
              <a:path w="7641" h="4367">
                <a:moveTo>
                  <a:pt x="19100" y="17711"/>
                </a:moveTo>
                <a:cubicBezTo>
                  <a:pt x="19086" y="17818"/>
                  <a:pt x="19067" y="17821"/>
                  <a:pt x="19124" y="17909"/>
                </a:cubicBezTo>
                <a:cubicBezTo>
                  <a:pt x="19275" y="17802"/>
                  <a:pt x="19376" y="17645"/>
                  <a:pt x="19496" y="17487"/>
                </a:cubicBezTo>
              </a:path>
              <a:path w="7641" h="4367">
                <a:moveTo>
                  <a:pt x="19323" y="16495"/>
                </a:moveTo>
                <a:cubicBezTo>
                  <a:pt x="19315" y="16479"/>
                  <a:pt x="19306" y="16462"/>
                  <a:pt x="19298" y="16446"/>
                </a:cubicBezTo>
                <a:cubicBezTo>
                  <a:pt x="19342" y="16685"/>
                  <a:pt x="19494" y="16476"/>
                  <a:pt x="19571" y="16346"/>
                </a:cubicBezTo>
                <a:cubicBezTo>
                  <a:pt x="19612" y="16263"/>
                  <a:pt x="19654" y="16181"/>
                  <a:pt x="19695" y="16098"/>
                </a:cubicBezTo>
              </a:path>
              <a:path w="7641" h="4367">
                <a:moveTo>
                  <a:pt x="20836" y="17140"/>
                </a:moveTo>
                <a:cubicBezTo>
                  <a:pt x="20904" y="17236"/>
                  <a:pt x="20958" y="17322"/>
                  <a:pt x="21059" y="17190"/>
                </a:cubicBezTo>
                <a:cubicBezTo>
                  <a:pt x="21198" y="16966"/>
                  <a:pt x="21251" y="16873"/>
                  <a:pt x="21307" y="16694"/>
                </a:cubicBezTo>
              </a:path>
              <a:path w="7641" h="4367">
                <a:moveTo>
                  <a:pt x="21481" y="15156"/>
                </a:moveTo>
                <a:cubicBezTo>
                  <a:pt x="21508" y="15209"/>
                  <a:pt x="21520" y="15229"/>
                  <a:pt x="21555" y="15255"/>
                </a:cubicBezTo>
                <a:cubicBezTo>
                  <a:pt x="21738" y="15099"/>
                  <a:pt x="21822" y="14949"/>
                  <a:pt x="21952" y="14734"/>
                </a:cubicBezTo>
              </a:path>
              <a:path w="7641" h="4367">
                <a:moveTo>
                  <a:pt x="22771" y="15528"/>
                </a:moveTo>
                <a:cubicBezTo>
                  <a:pt x="22820" y="15643"/>
                  <a:pt x="22799" y="15768"/>
                  <a:pt x="22870" y="15850"/>
                </a:cubicBezTo>
                <a:cubicBezTo>
                  <a:pt x="23016" y="15826"/>
                  <a:pt x="23204" y="15802"/>
                  <a:pt x="23118" y="15652"/>
                </a:cubicBezTo>
                <a:cubicBezTo>
                  <a:pt x="22971" y="15692"/>
                  <a:pt x="23010" y="15690"/>
                  <a:pt x="23019" y="15850"/>
                </a:cubicBezTo>
              </a:path>
              <a:path w="7641" h="4367">
                <a:moveTo>
                  <a:pt x="22225" y="17214"/>
                </a:moveTo>
                <a:cubicBezTo>
                  <a:pt x="22396" y="17308"/>
                  <a:pt x="22645" y="17248"/>
                  <a:pt x="22845" y="17214"/>
                </a:cubicBezTo>
                <a:cubicBezTo>
                  <a:pt x="23199" y="17153"/>
                  <a:pt x="23379" y="17069"/>
                  <a:pt x="23614" y="16793"/>
                </a:cubicBezTo>
                <a:cubicBezTo>
                  <a:pt x="23836" y="16533"/>
                  <a:pt x="24017" y="16151"/>
                  <a:pt x="23937" y="15801"/>
                </a:cubicBezTo>
                <a:cubicBezTo>
                  <a:pt x="23894" y="15613"/>
                  <a:pt x="23697" y="15383"/>
                  <a:pt x="23540" y="15280"/>
                </a:cubicBezTo>
                <a:cubicBezTo>
                  <a:pt x="23339" y="15148"/>
                  <a:pt x="23079" y="15122"/>
                  <a:pt x="22845" y="15156"/>
                </a:cubicBezTo>
                <a:cubicBezTo>
                  <a:pt x="22546" y="15200"/>
                  <a:pt x="22350" y="15344"/>
                  <a:pt x="22151" y="15553"/>
                </a:cubicBezTo>
                <a:cubicBezTo>
                  <a:pt x="21959" y="15755"/>
                  <a:pt x="21895" y="15911"/>
                  <a:pt x="21878" y="16197"/>
                </a:cubicBezTo>
                <a:cubicBezTo>
                  <a:pt x="21862" y="16464"/>
                  <a:pt x="21906" y="16790"/>
                  <a:pt x="22151" y="16942"/>
                </a:cubicBezTo>
                <a:cubicBezTo>
                  <a:pt x="22327" y="17052"/>
                  <a:pt x="22484" y="17016"/>
                  <a:pt x="2267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2200" y="2911320"/>
            <a:ext cx="1401840" cy="1366920"/>
          </a:xfrm>
          <a:custGeom>
            <a:avLst/>
            <a:gdLst/>
            <a:ahLst/>
            <a:rect l="l" t="t" r="r" b="b"/>
            <a:pathLst>
              <a:path w="3895" h="3796">
                <a:moveTo>
                  <a:pt x="3473" y="8210"/>
                </a:moveTo>
                <a:cubicBezTo>
                  <a:pt x="3427" y="8201"/>
                  <a:pt x="3204" y="8407"/>
                  <a:pt x="3076" y="8508"/>
                </a:cubicBezTo>
                <a:cubicBezTo>
                  <a:pt x="3163" y="8335"/>
                  <a:pt x="3286" y="8222"/>
                  <a:pt x="3448" y="8111"/>
                </a:cubicBezTo>
                <a:cubicBezTo>
                  <a:pt x="3464" y="8103"/>
                  <a:pt x="3481" y="8094"/>
                  <a:pt x="3497" y="8086"/>
                </a:cubicBezTo>
                <a:cubicBezTo>
                  <a:pt x="3510" y="8232"/>
                  <a:pt x="3545" y="8352"/>
                  <a:pt x="3597" y="8483"/>
                </a:cubicBezTo>
                <a:cubicBezTo>
                  <a:pt x="3605" y="8508"/>
                  <a:pt x="3613" y="8533"/>
                  <a:pt x="3621" y="8558"/>
                </a:cubicBezTo>
              </a:path>
              <a:path w="3895" h="3796">
                <a:moveTo>
                  <a:pt x="2927" y="8731"/>
                </a:moveTo>
                <a:cubicBezTo>
                  <a:pt x="2778" y="8686"/>
                  <a:pt x="2716" y="8685"/>
                  <a:pt x="2604" y="8806"/>
                </a:cubicBezTo>
                <a:cubicBezTo>
                  <a:pt x="2588" y="8831"/>
                  <a:pt x="2571" y="8855"/>
                  <a:pt x="2555" y="8880"/>
                </a:cubicBezTo>
                <a:cubicBezTo>
                  <a:pt x="2635" y="8897"/>
                  <a:pt x="2847" y="8866"/>
                  <a:pt x="2803" y="9004"/>
                </a:cubicBezTo>
                <a:cubicBezTo>
                  <a:pt x="2757" y="9148"/>
                  <a:pt x="2593" y="9117"/>
                  <a:pt x="2480" y="9128"/>
                </a:cubicBezTo>
              </a:path>
              <a:path w="3895" h="3796">
                <a:moveTo>
                  <a:pt x="3870" y="8830"/>
                </a:moveTo>
                <a:cubicBezTo>
                  <a:pt x="3863" y="8757"/>
                  <a:pt x="3851" y="8604"/>
                  <a:pt x="3721" y="8706"/>
                </a:cubicBezTo>
                <a:cubicBezTo>
                  <a:pt x="3696" y="8739"/>
                  <a:pt x="3671" y="8773"/>
                  <a:pt x="3646" y="8806"/>
                </a:cubicBezTo>
                <a:cubicBezTo>
                  <a:pt x="3638" y="8831"/>
                  <a:pt x="3629" y="8855"/>
                  <a:pt x="3621" y="8880"/>
                </a:cubicBezTo>
                <a:cubicBezTo>
                  <a:pt x="3800" y="8833"/>
                  <a:pt x="3898" y="8758"/>
                  <a:pt x="3870" y="9004"/>
                </a:cubicBezTo>
                <a:cubicBezTo>
                  <a:pt x="3862" y="9037"/>
                  <a:pt x="3853" y="9070"/>
                  <a:pt x="3845" y="9103"/>
                </a:cubicBezTo>
              </a:path>
              <a:path w="3895" h="3796">
                <a:moveTo>
                  <a:pt x="2208" y="9054"/>
                </a:moveTo>
                <a:cubicBezTo>
                  <a:pt x="2241" y="9222"/>
                  <a:pt x="2322" y="9341"/>
                  <a:pt x="2505" y="9376"/>
                </a:cubicBezTo>
                <a:cubicBezTo>
                  <a:pt x="2806" y="9434"/>
                  <a:pt x="3053" y="9227"/>
                  <a:pt x="3101" y="8930"/>
                </a:cubicBezTo>
                <a:cubicBezTo>
                  <a:pt x="3165" y="8532"/>
                  <a:pt x="2735" y="8492"/>
                  <a:pt x="2456" y="8558"/>
                </a:cubicBezTo>
                <a:cubicBezTo>
                  <a:pt x="2091" y="8644"/>
                  <a:pt x="2186" y="8846"/>
                  <a:pt x="2208" y="9128"/>
                </a:cubicBezTo>
              </a:path>
              <a:path w="3895" h="3796">
                <a:moveTo>
                  <a:pt x="3770" y="9327"/>
                </a:moveTo>
                <a:cubicBezTo>
                  <a:pt x="3699" y="9433"/>
                  <a:pt x="3633" y="9538"/>
                  <a:pt x="3572" y="9649"/>
                </a:cubicBezTo>
                <a:cubicBezTo>
                  <a:pt x="3666" y="9484"/>
                  <a:pt x="3753" y="9352"/>
                  <a:pt x="3870" y="9203"/>
                </a:cubicBezTo>
                <a:cubicBezTo>
                  <a:pt x="3928" y="9344"/>
                  <a:pt x="3982" y="9485"/>
                  <a:pt x="4043" y="9624"/>
                </a:cubicBezTo>
              </a:path>
              <a:path w="3895" h="3796">
                <a:moveTo>
                  <a:pt x="3175" y="9773"/>
                </a:moveTo>
                <a:cubicBezTo>
                  <a:pt x="3212" y="9754"/>
                  <a:pt x="3420" y="9669"/>
                  <a:pt x="3373" y="9798"/>
                </a:cubicBezTo>
                <a:cubicBezTo>
                  <a:pt x="3324" y="9872"/>
                  <a:pt x="3307" y="9897"/>
                  <a:pt x="3249" y="9922"/>
                </a:cubicBezTo>
                <a:cubicBezTo>
                  <a:pt x="3348" y="9942"/>
                  <a:pt x="3389" y="9924"/>
                  <a:pt x="3373" y="9996"/>
                </a:cubicBezTo>
                <a:cubicBezTo>
                  <a:pt x="3289" y="10119"/>
                  <a:pt x="3271" y="10088"/>
                  <a:pt x="3101" y="10096"/>
                </a:cubicBezTo>
              </a:path>
              <a:path w="3895" h="3796">
                <a:moveTo>
                  <a:pt x="4142" y="9996"/>
                </a:moveTo>
                <a:cubicBezTo>
                  <a:pt x="4228" y="9957"/>
                  <a:pt x="4299" y="9935"/>
                  <a:pt x="4390" y="9922"/>
                </a:cubicBezTo>
                <a:cubicBezTo>
                  <a:pt x="4340" y="10034"/>
                  <a:pt x="4231" y="10052"/>
                  <a:pt x="4341" y="10096"/>
                </a:cubicBezTo>
                <a:cubicBezTo>
                  <a:pt x="4550" y="10180"/>
                  <a:pt x="4243" y="10262"/>
                  <a:pt x="4167" y="10294"/>
                </a:cubicBezTo>
              </a:path>
              <a:path w="3895" h="3796">
                <a:moveTo>
                  <a:pt x="4018" y="10393"/>
                </a:moveTo>
                <a:cubicBezTo>
                  <a:pt x="4262" y="10380"/>
                  <a:pt x="4627" y="10404"/>
                  <a:pt x="4762" y="10145"/>
                </a:cubicBezTo>
                <a:cubicBezTo>
                  <a:pt x="4770" y="10095"/>
                  <a:pt x="4779" y="10046"/>
                  <a:pt x="4787" y="9996"/>
                </a:cubicBezTo>
                <a:cubicBezTo>
                  <a:pt x="4512" y="9765"/>
                  <a:pt x="4140" y="9613"/>
                  <a:pt x="3944" y="10071"/>
                </a:cubicBezTo>
                <a:cubicBezTo>
                  <a:pt x="3944" y="10284"/>
                  <a:pt x="3937" y="10352"/>
                  <a:pt x="4093" y="10418"/>
                </a:cubicBezTo>
              </a:path>
              <a:path w="3895" h="3796">
                <a:moveTo>
                  <a:pt x="2828" y="10220"/>
                </a:moveTo>
                <a:cubicBezTo>
                  <a:pt x="3064" y="10330"/>
                  <a:pt x="3316" y="10368"/>
                  <a:pt x="3572" y="10269"/>
                </a:cubicBezTo>
                <a:cubicBezTo>
                  <a:pt x="3884" y="10148"/>
                  <a:pt x="3863" y="9708"/>
                  <a:pt x="3522" y="9624"/>
                </a:cubicBezTo>
                <a:cubicBezTo>
                  <a:pt x="2995" y="9494"/>
                  <a:pt x="2956" y="9992"/>
                  <a:pt x="3051" y="10294"/>
                </a:cubicBezTo>
              </a:path>
              <a:path w="3895" h="3796">
                <a:moveTo>
                  <a:pt x="1488" y="11063"/>
                </a:moveTo>
                <a:cubicBezTo>
                  <a:pt x="1569" y="11036"/>
                  <a:pt x="1601" y="11028"/>
                  <a:pt x="1662" y="11038"/>
                </a:cubicBezTo>
                <a:cubicBezTo>
                  <a:pt x="1662" y="11190"/>
                  <a:pt x="1613" y="11227"/>
                  <a:pt x="1513" y="11336"/>
                </a:cubicBezTo>
                <a:cubicBezTo>
                  <a:pt x="1625" y="11317"/>
                  <a:pt x="1742" y="11324"/>
                  <a:pt x="1662" y="11485"/>
                </a:cubicBezTo>
                <a:cubicBezTo>
                  <a:pt x="1585" y="11640"/>
                  <a:pt x="1396" y="11634"/>
                  <a:pt x="1265" y="11584"/>
                </a:cubicBezTo>
              </a:path>
              <a:path w="3895" h="3796">
                <a:moveTo>
                  <a:pt x="1960" y="10691"/>
                </a:moveTo>
                <a:cubicBezTo>
                  <a:pt x="2081" y="10779"/>
                  <a:pt x="2135" y="10848"/>
                  <a:pt x="1984" y="10964"/>
                </a:cubicBezTo>
                <a:cubicBezTo>
                  <a:pt x="1882" y="11042"/>
                  <a:pt x="1823" y="11040"/>
                  <a:pt x="1811" y="10964"/>
                </a:cubicBezTo>
                <a:cubicBezTo>
                  <a:pt x="1928" y="10946"/>
                  <a:pt x="1952" y="10956"/>
                  <a:pt x="2059" y="11013"/>
                </a:cubicBezTo>
              </a:path>
              <a:path w="3895" h="3796">
                <a:moveTo>
                  <a:pt x="2356" y="11063"/>
                </a:moveTo>
                <a:cubicBezTo>
                  <a:pt x="2431" y="11155"/>
                  <a:pt x="2508" y="11242"/>
                  <a:pt x="2580" y="11336"/>
                </a:cubicBezTo>
              </a:path>
              <a:path w="3895" h="3796">
                <a:moveTo>
                  <a:pt x="2629" y="10964"/>
                </a:moveTo>
                <a:cubicBezTo>
                  <a:pt x="2544" y="11092"/>
                  <a:pt x="2485" y="11234"/>
                  <a:pt x="2406" y="11361"/>
                </a:cubicBezTo>
              </a:path>
              <a:path w="3895" h="3796">
                <a:moveTo>
                  <a:pt x="3150" y="10939"/>
                </a:moveTo>
                <a:cubicBezTo>
                  <a:pt x="3044" y="10950"/>
                  <a:pt x="2940" y="10945"/>
                  <a:pt x="2902" y="11013"/>
                </a:cubicBezTo>
                <a:cubicBezTo>
                  <a:pt x="2894" y="11030"/>
                  <a:pt x="2885" y="11046"/>
                  <a:pt x="2877" y="11063"/>
                </a:cubicBezTo>
                <a:cubicBezTo>
                  <a:pt x="2973" y="11106"/>
                  <a:pt x="3122" y="11109"/>
                  <a:pt x="3175" y="11212"/>
                </a:cubicBezTo>
                <a:cubicBezTo>
                  <a:pt x="3259" y="11374"/>
                  <a:pt x="3004" y="11380"/>
                  <a:pt x="2927" y="11385"/>
                </a:cubicBezTo>
              </a:path>
              <a:path w="3895" h="3796">
                <a:moveTo>
                  <a:pt x="1339" y="11832"/>
                </a:moveTo>
                <a:cubicBezTo>
                  <a:pt x="1646" y="11908"/>
                  <a:pt x="1966" y="11881"/>
                  <a:pt x="2282" y="11881"/>
                </a:cubicBezTo>
                <a:cubicBezTo>
                  <a:pt x="2620" y="11881"/>
                  <a:pt x="2877" y="11861"/>
                  <a:pt x="3200" y="11757"/>
                </a:cubicBezTo>
                <a:cubicBezTo>
                  <a:pt x="3442" y="11679"/>
                  <a:pt x="3531" y="11650"/>
                  <a:pt x="3597" y="11410"/>
                </a:cubicBezTo>
                <a:cubicBezTo>
                  <a:pt x="3619" y="11330"/>
                  <a:pt x="3653" y="11171"/>
                  <a:pt x="3621" y="11088"/>
                </a:cubicBezTo>
                <a:cubicBezTo>
                  <a:pt x="3591" y="11010"/>
                  <a:pt x="3530" y="10988"/>
                  <a:pt x="3473" y="10939"/>
                </a:cubicBezTo>
                <a:cubicBezTo>
                  <a:pt x="3390" y="10868"/>
                  <a:pt x="3303" y="10854"/>
                  <a:pt x="3200" y="10815"/>
                </a:cubicBezTo>
                <a:cubicBezTo>
                  <a:pt x="3101" y="10777"/>
                  <a:pt x="2996" y="10727"/>
                  <a:pt x="2902" y="10666"/>
                </a:cubicBezTo>
                <a:cubicBezTo>
                  <a:pt x="2847" y="10630"/>
                  <a:pt x="2787" y="10602"/>
                  <a:pt x="2729" y="10567"/>
                </a:cubicBezTo>
                <a:cubicBezTo>
                  <a:pt x="2649" y="10519"/>
                  <a:pt x="2544" y="10452"/>
                  <a:pt x="2456" y="10418"/>
                </a:cubicBezTo>
                <a:cubicBezTo>
                  <a:pt x="2323" y="10367"/>
                  <a:pt x="2171" y="10353"/>
                  <a:pt x="2034" y="10319"/>
                </a:cubicBezTo>
                <a:cubicBezTo>
                  <a:pt x="1873" y="10280"/>
                  <a:pt x="1725" y="10293"/>
                  <a:pt x="1563" y="10319"/>
                </a:cubicBezTo>
                <a:cubicBezTo>
                  <a:pt x="1401" y="10345"/>
                  <a:pt x="1137" y="10393"/>
                  <a:pt x="1017" y="10517"/>
                </a:cubicBezTo>
                <a:cubicBezTo>
                  <a:pt x="929" y="10608"/>
                  <a:pt x="885" y="10741"/>
                  <a:pt x="893" y="10864"/>
                </a:cubicBezTo>
                <a:cubicBezTo>
                  <a:pt x="907" y="11068"/>
                  <a:pt x="980" y="11219"/>
                  <a:pt x="1091" y="11385"/>
                </a:cubicBezTo>
                <a:cubicBezTo>
                  <a:pt x="1200" y="11549"/>
                  <a:pt x="1332" y="11567"/>
                  <a:pt x="1513" y="11609"/>
                </a:cubicBezTo>
                <a:cubicBezTo>
                  <a:pt x="1592" y="11627"/>
                  <a:pt x="1619" y="11637"/>
                  <a:pt x="168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10000" y="2928960"/>
            <a:ext cx="134784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1633" y="8235"/>
                </a:moveTo>
                <a:cubicBezTo>
                  <a:pt x="11523" y="8313"/>
                  <a:pt x="11408" y="8500"/>
                  <a:pt x="11311" y="8632"/>
                </a:cubicBezTo>
                <a:cubicBezTo>
                  <a:pt x="11408" y="8457"/>
                  <a:pt x="11509" y="8293"/>
                  <a:pt x="11633" y="8136"/>
                </a:cubicBezTo>
                <a:cubicBezTo>
                  <a:pt x="11675" y="8268"/>
                  <a:pt x="11701" y="8434"/>
                  <a:pt x="11807" y="8533"/>
                </a:cubicBezTo>
                <a:cubicBezTo>
                  <a:pt x="11824" y="8541"/>
                  <a:pt x="11840" y="8550"/>
                  <a:pt x="11857" y="8558"/>
                </a:cubicBezTo>
              </a:path>
              <a:path w="3747" h="1241">
                <a:moveTo>
                  <a:pt x="10468" y="8731"/>
                </a:moveTo>
                <a:cubicBezTo>
                  <a:pt x="10427" y="8754"/>
                  <a:pt x="10376" y="8760"/>
                  <a:pt x="10418" y="8781"/>
                </a:cubicBezTo>
                <a:cubicBezTo>
                  <a:pt x="10624" y="8712"/>
                  <a:pt x="10710" y="8878"/>
                  <a:pt x="10517" y="9029"/>
                </a:cubicBezTo>
                <a:cubicBezTo>
                  <a:pt x="10416" y="9108"/>
                  <a:pt x="10210" y="9168"/>
                  <a:pt x="10170" y="9029"/>
                </a:cubicBezTo>
                <a:cubicBezTo>
                  <a:pt x="10343" y="8992"/>
                  <a:pt x="10435" y="9020"/>
                  <a:pt x="10592" y="9103"/>
                </a:cubicBezTo>
              </a:path>
              <a:path w="3747" h="1241">
                <a:moveTo>
                  <a:pt x="11807" y="8756"/>
                </a:moveTo>
                <a:cubicBezTo>
                  <a:pt x="11857" y="8761"/>
                  <a:pt x="12222" y="8829"/>
                  <a:pt x="12030" y="8979"/>
                </a:cubicBezTo>
                <a:cubicBezTo>
                  <a:pt x="11923" y="9063"/>
                  <a:pt x="11796" y="9029"/>
                  <a:pt x="11683" y="9004"/>
                </a:cubicBezTo>
                <a:cubicBezTo>
                  <a:pt x="11858" y="8910"/>
                  <a:pt x="11935" y="8932"/>
                  <a:pt x="12105" y="9029"/>
                </a:cubicBezTo>
              </a:path>
              <a:path w="3747" h="1241">
                <a:moveTo>
                  <a:pt x="12551" y="8682"/>
                </a:moveTo>
                <a:cubicBezTo>
                  <a:pt x="12466" y="8706"/>
                  <a:pt x="12321" y="8809"/>
                  <a:pt x="12402" y="8930"/>
                </a:cubicBezTo>
                <a:cubicBezTo>
                  <a:pt x="12476" y="9040"/>
                  <a:pt x="12607" y="8895"/>
                  <a:pt x="12650" y="8855"/>
                </a:cubicBezTo>
                <a:cubicBezTo>
                  <a:pt x="12622" y="8738"/>
                  <a:pt x="12596" y="8699"/>
                  <a:pt x="12477" y="8706"/>
                </a:cubicBezTo>
              </a:path>
              <a:path w="3747" h="1241">
                <a:moveTo>
                  <a:pt x="12849" y="8632"/>
                </a:moveTo>
                <a:cubicBezTo>
                  <a:pt x="12789" y="8668"/>
                  <a:pt x="12728" y="8755"/>
                  <a:pt x="12799" y="8830"/>
                </a:cubicBezTo>
                <a:cubicBezTo>
                  <a:pt x="12890" y="8925"/>
                  <a:pt x="13131" y="8865"/>
                  <a:pt x="13072" y="8706"/>
                </a:cubicBezTo>
                <a:cubicBezTo>
                  <a:pt x="13055" y="8698"/>
                  <a:pt x="13039" y="8690"/>
                  <a:pt x="13022" y="8682"/>
                </a:cubicBezTo>
              </a:path>
              <a:path w="3747" h="1241">
                <a:moveTo>
                  <a:pt x="13345" y="8632"/>
                </a:moveTo>
                <a:cubicBezTo>
                  <a:pt x="13289" y="8688"/>
                  <a:pt x="13153" y="8874"/>
                  <a:pt x="13345" y="8880"/>
                </a:cubicBezTo>
                <a:cubicBezTo>
                  <a:pt x="13495" y="8885"/>
                  <a:pt x="13480" y="8785"/>
                  <a:pt x="13494" y="8682"/>
                </a:cubicBezTo>
              </a:path>
              <a:path w="3747" h="1241">
                <a:moveTo>
                  <a:pt x="9773" y="9203"/>
                </a:moveTo>
                <a:cubicBezTo>
                  <a:pt x="9882" y="9402"/>
                  <a:pt x="10151" y="9405"/>
                  <a:pt x="10368" y="9376"/>
                </a:cubicBezTo>
                <a:cubicBezTo>
                  <a:pt x="10618" y="9343"/>
                  <a:pt x="11057" y="9139"/>
                  <a:pt x="10840" y="8806"/>
                </a:cubicBezTo>
                <a:cubicBezTo>
                  <a:pt x="10670" y="8546"/>
                  <a:pt x="10097" y="8403"/>
                  <a:pt x="9872" y="8657"/>
                </a:cubicBezTo>
                <a:cubicBezTo>
                  <a:pt x="9831" y="8748"/>
                  <a:pt x="9789" y="8839"/>
                  <a:pt x="974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28960" y="3625920"/>
            <a:ext cx="946080" cy="652320"/>
          </a:xfrm>
          <a:custGeom>
            <a:avLst/>
            <a:gdLst/>
            <a:ahLst/>
            <a:rect l="l" t="t" r="r" b="b"/>
            <a:pathLst>
              <a:path w="2630" h="1811">
                <a:moveTo>
                  <a:pt x="9227" y="10616"/>
                </a:moveTo>
                <a:cubicBezTo>
                  <a:pt x="9120" y="10616"/>
                  <a:pt x="9108" y="10625"/>
                  <a:pt x="9054" y="10716"/>
                </a:cubicBezTo>
                <a:cubicBezTo>
                  <a:pt x="9127" y="10716"/>
                  <a:pt x="9210" y="10693"/>
                  <a:pt x="9227" y="10790"/>
                </a:cubicBezTo>
                <a:cubicBezTo>
                  <a:pt x="9257" y="10958"/>
                  <a:pt x="9079" y="10914"/>
                  <a:pt x="9004" y="10864"/>
                </a:cubicBezTo>
              </a:path>
              <a:path w="2630" h="1811">
                <a:moveTo>
                  <a:pt x="9550" y="10840"/>
                </a:moveTo>
                <a:cubicBezTo>
                  <a:pt x="9621" y="10959"/>
                  <a:pt x="9678" y="11059"/>
                  <a:pt x="9723" y="11187"/>
                </a:cubicBezTo>
              </a:path>
              <a:path w="2630" h="1811">
                <a:moveTo>
                  <a:pt x="9723" y="10889"/>
                </a:moveTo>
                <a:cubicBezTo>
                  <a:pt x="9650" y="11030"/>
                  <a:pt x="9574" y="11170"/>
                  <a:pt x="9500" y="11311"/>
                </a:cubicBezTo>
              </a:path>
              <a:path w="2630" h="1811">
                <a:moveTo>
                  <a:pt x="10195" y="10864"/>
                </a:moveTo>
                <a:cubicBezTo>
                  <a:pt x="10046" y="10939"/>
                  <a:pt x="9984" y="10901"/>
                  <a:pt x="9922" y="11038"/>
                </a:cubicBezTo>
                <a:cubicBezTo>
                  <a:pt x="9914" y="11055"/>
                  <a:pt x="9905" y="11071"/>
                  <a:pt x="9897" y="11088"/>
                </a:cubicBezTo>
                <a:cubicBezTo>
                  <a:pt x="9980" y="11088"/>
                  <a:pt x="10251" y="11049"/>
                  <a:pt x="10195" y="11237"/>
                </a:cubicBezTo>
                <a:cubicBezTo>
                  <a:pt x="10148" y="11397"/>
                  <a:pt x="9994" y="11374"/>
                  <a:pt x="9872" y="11385"/>
                </a:cubicBezTo>
              </a:path>
              <a:path w="2630" h="1811">
                <a:moveTo>
                  <a:pt x="10319" y="10517"/>
                </a:moveTo>
                <a:cubicBezTo>
                  <a:pt x="10364" y="10492"/>
                  <a:pt x="10551" y="10448"/>
                  <a:pt x="10468" y="10592"/>
                </a:cubicBezTo>
                <a:cubicBezTo>
                  <a:pt x="10443" y="10608"/>
                  <a:pt x="10418" y="10625"/>
                  <a:pt x="10393" y="10641"/>
                </a:cubicBezTo>
                <a:cubicBezTo>
                  <a:pt x="10470" y="10656"/>
                  <a:pt x="10497" y="10691"/>
                  <a:pt x="10443" y="10765"/>
                </a:cubicBezTo>
                <a:cubicBezTo>
                  <a:pt x="10392" y="10816"/>
                  <a:pt x="10374" y="10832"/>
                  <a:pt x="10319" y="10815"/>
                </a:cubicBezTo>
              </a:path>
              <a:path w="2630" h="1811">
                <a:moveTo>
                  <a:pt x="8483" y="11857"/>
                </a:moveTo>
                <a:cubicBezTo>
                  <a:pt x="8781" y="11903"/>
                  <a:pt x="9074" y="11865"/>
                  <a:pt x="9376" y="11857"/>
                </a:cubicBezTo>
                <a:cubicBezTo>
                  <a:pt x="9839" y="11845"/>
                  <a:pt x="10170" y="11787"/>
                  <a:pt x="10517" y="11460"/>
                </a:cubicBezTo>
                <a:cubicBezTo>
                  <a:pt x="10716" y="11273"/>
                  <a:pt x="10860" y="10888"/>
                  <a:pt x="10740" y="10616"/>
                </a:cubicBezTo>
                <a:cubicBezTo>
                  <a:pt x="10648" y="10409"/>
                  <a:pt x="10461" y="10285"/>
                  <a:pt x="10269" y="10195"/>
                </a:cubicBezTo>
                <a:cubicBezTo>
                  <a:pt x="10011" y="10074"/>
                  <a:pt x="9657" y="10035"/>
                  <a:pt x="9376" y="10096"/>
                </a:cubicBezTo>
                <a:cubicBezTo>
                  <a:pt x="9004" y="10176"/>
                  <a:pt x="8542" y="10349"/>
                  <a:pt x="8310" y="10666"/>
                </a:cubicBezTo>
                <a:cubicBezTo>
                  <a:pt x="7895" y="11234"/>
                  <a:pt x="8206" y="11553"/>
                  <a:pt x="865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6200" y="4098960"/>
            <a:ext cx="7066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3320" y="11410"/>
                </a:moveTo>
                <a:cubicBezTo>
                  <a:pt x="13262" y="11696"/>
                  <a:pt x="13549" y="11464"/>
                  <a:pt x="13667" y="11385"/>
                </a:cubicBezTo>
              </a:path>
              <a:path w="1961" h="1514">
                <a:moveTo>
                  <a:pt x="14114" y="12129"/>
                </a:moveTo>
                <a:cubicBezTo>
                  <a:pt x="14184" y="12256"/>
                  <a:pt x="14195" y="12288"/>
                  <a:pt x="14337" y="12204"/>
                </a:cubicBezTo>
                <a:cubicBezTo>
                  <a:pt x="14492" y="12101"/>
                  <a:pt x="14548" y="12064"/>
                  <a:pt x="14660" y="12005"/>
                </a:cubicBezTo>
              </a:path>
              <a:path w="1961" h="1514">
                <a:moveTo>
                  <a:pt x="14709" y="12799"/>
                </a:moveTo>
                <a:cubicBezTo>
                  <a:pt x="14701" y="12824"/>
                  <a:pt x="14692" y="12849"/>
                  <a:pt x="14684" y="12874"/>
                </a:cubicBezTo>
                <a:cubicBezTo>
                  <a:pt x="14880" y="12921"/>
                  <a:pt x="15083" y="12749"/>
                  <a:pt x="15255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9960" y="39909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8508" y="11137"/>
                </a:moveTo>
                <a:cubicBezTo>
                  <a:pt x="8756" y="11090"/>
                  <a:pt x="8950" y="11206"/>
                  <a:pt x="8781" y="11509"/>
                </a:cubicBezTo>
                <a:cubicBezTo>
                  <a:pt x="8667" y="11714"/>
                  <a:pt x="8533" y="11695"/>
                  <a:pt x="8359" y="11658"/>
                </a:cubicBezTo>
                <a:cubicBezTo>
                  <a:pt x="8504" y="11434"/>
                  <a:pt x="8613" y="11498"/>
                  <a:pt x="888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84960" y="2384280"/>
            <a:ext cx="1714320" cy="687600"/>
          </a:xfrm>
          <a:custGeom>
            <a:avLst/>
            <a:gdLst/>
            <a:ahLst/>
            <a:rect l="l" t="t" r="r" b="b"/>
            <a:pathLst>
              <a:path w="4764" h="1911">
                <a:moveTo>
                  <a:pt x="17983" y="8285"/>
                </a:moveTo>
                <a:cubicBezTo>
                  <a:pt x="18223" y="8510"/>
                  <a:pt x="18536" y="8597"/>
                  <a:pt x="18876" y="8508"/>
                </a:cubicBezTo>
                <a:cubicBezTo>
                  <a:pt x="19297" y="8397"/>
                  <a:pt x="19593" y="7935"/>
                  <a:pt x="19596" y="7516"/>
                </a:cubicBezTo>
                <a:cubicBezTo>
                  <a:pt x="19599" y="7100"/>
                  <a:pt x="19071" y="6775"/>
                  <a:pt x="18728" y="6672"/>
                </a:cubicBezTo>
                <a:cubicBezTo>
                  <a:pt x="18227" y="6522"/>
                  <a:pt x="17757" y="6789"/>
                  <a:pt x="17735" y="7342"/>
                </a:cubicBezTo>
                <a:cubicBezTo>
                  <a:pt x="17804" y="7777"/>
                  <a:pt x="17812" y="7901"/>
                  <a:pt x="17983" y="8136"/>
                </a:cubicBezTo>
              </a:path>
              <a:path w="4764" h="1911">
                <a:moveTo>
                  <a:pt x="20067" y="7987"/>
                </a:moveTo>
                <a:cubicBezTo>
                  <a:pt x="20035" y="8139"/>
                  <a:pt x="20028" y="8445"/>
                  <a:pt x="19993" y="8434"/>
                </a:cubicBezTo>
                <a:cubicBezTo>
                  <a:pt x="19981" y="8053"/>
                  <a:pt x="19985" y="7882"/>
                  <a:pt x="20340" y="7764"/>
                </a:cubicBezTo>
                <a:cubicBezTo>
                  <a:pt x="20439" y="8047"/>
                  <a:pt x="20321" y="8070"/>
                  <a:pt x="20042" y="8111"/>
                </a:cubicBezTo>
              </a:path>
              <a:path w="4764" h="1911">
                <a:moveTo>
                  <a:pt x="20613" y="7888"/>
                </a:moveTo>
                <a:cubicBezTo>
                  <a:pt x="20621" y="7921"/>
                  <a:pt x="20630" y="7954"/>
                  <a:pt x="20638" y="7987"/>
                </a:cubicBezTo>
                <a:cubicBezTo>
                  <a:pt x="20705" y="7863"/>
                  <a:pt x="20761" y="7714"/>
                  <a:pt x="20886" y="7640"/>
                </a:cubicBezTo>
                <a:cubicBezTo>
                  <a:pt x="20911" y="7632"/>
                  <a:pt x="20935" y="7623"/>
                  <a:pt x="20960" y="7615"/>
                </a:cubicBezTo>
              </a:path>
              <a:path w="4764" h="1911">
                <a:moveTo>
                  <a:pt x="21109" y="7813"/>
                </a:moveTo>
                <a:cubicBezTo>
                  <a:pt x="21109" y="7913"/>
                  <a:pt x="21109" y="7946"/>
                  <a:pt x="21109" y="8012"/>
                </a:cubicBezTo>
              </a:path>
              <a:path w="4764" h="1911">
                <a:moveTo>
                  <a:pt x="21332" y="7863"/>
                </a:moveTo>
                <a:cubicBezTo>
                  <a:pt x="21332" y="8083"/>
                  <a:pt x="21304" y="7642"/>
                  <a:pt x="21481" y="7590"/>
                </a:cubicBezTo>
                <a:cubicBezTo>
                  <a:pt x="21626" y="7547"/>
                  <a:pt x="21669" y="7754"/>
                  <a:pt x="21704" y="7838"/>
                </a:cubicBezTo>
                <a:cubicBezTo>
                  <a:pt x="21704" y="7683"/>
                  <a:pt x="21699" y="7668"/>
                  <a:pt x="21803" y="7541"/>
                </a:cubicBezTo>
                <a:cubicBezTo>
                  <a:pt x="21924" y="7651"/>
                  <a:pt x="21947" y="7737"/>
                  <a:pt x="22002" y="7888"/>
                </a:cubicBezTo>
              </a:path>
              <a:path w="4764" h="1911">
                <a:moveTo>
                  <a:pt x="22250" y="7590"/>
                </a:moveTo>
                <a:cubicBezTo>
                  <a:pt x="22340" y="7528"/>
                  <a:pt x="22418" y="7465"/>
                  <a:pt x="22498" y="7392"/>
                </a:cubicBezTo>
                <a:cubicBezTo>
                  <a:pt x="22382" y="7399"/>
                  <a:pt x="21987" y="7561"/>
                  <a:pt x="22250" y="7739"/>
                </a:cubicBezTo>
                <a:cubicBezTo>
                  <a:pt x="22316" y="7756"/>
                  <a:pt x="22382" y="7772"/>
                  <a:pt x="22448" y="7789"/>
                </a:cubicBezTo>
              </a:path>
              <a:path w="4764" h="1911">
                <a:moveTo>
                  <a:pt x="21134" y="7243"/>
                </a:moveTo>
                <a:lnTo>
                  <a:pt x="21134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54080" y="5027760"/>
            <a:ext cx="25884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3249" y="13965"/>
                </a:moveTo>
                <a:cubicBezTo>
                  <a:pt x="3169" y="14138"/>
                  <a:pt x="3061" y="14252"/>
                  <a:pt x="2927" y="14387"/>
                </a:cubicBezTo>
                <a:cubicBezTo>
                  <a:pt x="3059" y="14223"/>
                  <a:pt x="3166" y="14097"/>
                  <a:pt x="3349" y="13990"/>
                </a:cubicBezTo>
                <a:cubicBezTo>
                  <a:pt x="3365" y="13982"/>
                  <a:pt x="3382" y="13973"/>
                  <a:pt x="3398" y="13965"/>
                </a:cubicBezTo>
                <a:cubicBezTo>
                  <a:pt x="3471" y="14119"/>
                  <a:pt x="3516" y="14286"/>
                  <a:pt x="3597" y="14436"/>
                </a:cubicBezTo>
                <a:cubicBezTo>
                  <a:pt x="3613" y="14461"/>
                  <a:pt x="3630" y="14486"/>
                  <a:pt x="3646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4880" y="5276880"/>
            <a:ext cx="1350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07" y="14784"/>
                </a:moveTo>
                <a:cubicBezTo>
                  <a:pt x="2276" y="14677"/>
                  <a:pt x="2170" y="14635"/>
                  <a:pt x="2059" y="14709"/>
                </a:cubicBezTo>
                <a:cubicBezTo>
                  <a:pt x="1975" y="14793"/>
                  <a:pt x="1942" y="14804"/>
                  <a:pt x="1960" y="14883"/>
                </a:cubicBezTo>
                <a:cubicBezTo>
                  <a:pt x="2130" y="14902"/>
                  <a:pt x="2218" y="14910"/>
                  <a:pt x="2332" y="14784"/>
                </a:cubicBezTo>
                <a:cubicBezTo>
                  <a:pt x="2326" y="14908"/>
                  <a:pt x="2311" y="15010"/>
                  <a:pt x="228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840" y="5160960"/>
            <a:ext cx="1251000" cy="876240"/>
          </a:xfrm>
          <a:custGeom>
            <a:avLst/>
            <a:gdLst/>
            <a:ahLst/>
            <a:rect l="l" t="t" r="r" b="b"/>
            <a:pathLst>
              <a:path w="3474" h="2432">
                <a:moveTo>
                  <a:pt x="3448" y="14684"/>
                </a:moveTo>
                <a:cubicBezTo>
                  <a:pt x="3448" y="14801"/>
                  <a:pt x="3453" y="14899"/>
                  <a:pt x="3423" y="15007"/>
                </a:cubicBezTo>
              </a:path>
              <a:path w="3474" h="2432">
                <a:moveTo>
                  <a:pt x="3746" y="14660"/>
                </a:moveTo>
                <a:cubicBezTo>
                  <a:pt x="3753" y="14752"/>
                  <a:pt x="3764" y="14839"/>
                  <a:pt x="3770" y="14932"/>
                </a:cubicBezTo>
              </a:path>
              <a:path w="3474" h="2432">
                <a:moveTo>
                  <a:pt x="3324" y="15280"/>
                </a:moveTo>
                <a:cubicBezTo>
                  <a:pt x="3517" y="15369"/>
                  <a:pt x="3727" y="15385"/>
                  <a:pt x="3919" y="15255"/>
                </a:cubicBezTo>
                <a:cubicBezTo>
                  <a:pt x="4104" y="15130"/>
                  <a:pt x="4259" y="14860"/>
                  <a:pt x="4167" y="14635"/>
                </a:cubicBezTo>
                <a:cubicBezTo>
                  <a:pt x="4074" y="14405"/>
                  <a:pt x="3824" y="14272"/>
                  <a:pt x="3597" y="14387"/>
                </a:cubicBezTo>
                <a:cubicBezTo>
                  <a:pt x="3267" y="14555"/>
                  <a:pt x="3213" y="14825"/>
                  <a:pt x="3274" y="15131"/>
                </a:cubicBezTo>
              </a:path>
              <a:path w="3474" h="2432">
                <a:moveTo>
                  <a:pt x="2133" y="15255"/>
                </a:moveTo>
                <a:cubicBezTo>
                  <a:pt x="2029" y="15385"/>
                  <a:pt x="1932" y="15506"/>
                  <a:pt x="1811" y="15627"/>
                </a:cubicBezTo>
                <a:cubicBezTo>
                  <a:pt x="1794" y="15644"/>
                  <a:pt x="1778" y="15660"/>
                  <a:pt x="1761" y="15677"/>
                </a:cubicBezTo>
                <a:cubicBezTo>
                  <a:pt x="1882" y="15529"/>
                  <a:pt x="1997" y="15352"/>
                  <a:pt x="2133" y="15230"/>
                </a:cubicBezTo>
                <a:cubicBezTo>
                  <a:pt x="2256" y="15308"/>
                  <a:pt x="2280" y="15407"/>
                  <a:pt x="2332" y="15553"/>
                </a:cubicBezTo>
              </a:path>
              <a:path w="3474" h="2432">
                <a:moveTo>
                  <a:pt x="1290" y="15751"/>
                </a:moveTo>
                <a:cubicBezTo>
                  <a:pt x="1386" y="15751"/>
                  <a:pt x="1416" y="15749"/>
                  <a:pt x="1463" y="15801"/>
                </a:cubicBezTo>
                <a:cubicBezTo>
                  <a:pt x="1429" y="15920"/>
                  <a:pt x="1354" y="16000"/>
                  <a:pt x="1215" y="15999"/>
                </a:cubicBezTo>
                <a:cubicBezTo>
                  <a:pt x="1232" y="15991"/>
                  <a:pt x="1248" y="15982"/>
                  <a:pt x="1265" y="15974"/>
                </a:cubicBezTo>
                <a:cubicBezTo>
                  <a:pt x="1356" y="15981"/>
                  <a:pt x="1501" y="16075"/>
                  <a:pt x="1364" y="16049"/>
                </a:cubicBezTo>
                <a:cubicBezTo>
                  <a:pt x="1234" y="16024"/>
                  <a:pt x="1237" y="16033"/>
                  <a:pt x="1215" y="15925"/>
                </a:cubicBezTo>
              </a:path>
              <a:path w="3474" h="2432">
                <a:moveTo>
                  <a:pt x="2332" y="15677"/>
                </a:moveTo>
                <a:cubicBezTo>
                  <a:pt x="2362" y="15673"/>
                  <a:pt x="2660" y="15627"/>
                  <a:pt x="2580" y="15751"/>
                </a:cubicBezTo>
                <a:cubicBezTo>
                  <a:pt x="2524" y="15837"/>
                  <a:pt x="2442" y="15841"/>
                  <a:pt x="2356" y="15875"/>
                </a:cubicBezTo>
                <a:cubicBezTo>
                  <a:pt x="2457" y="15891"/>
                  <a:pt x="2499" y="15910"/>
                  <a:pt x="2580" y="15974"/>
                </a:cubicBezTo>
                <a:cubicBezTo>
                  <a:pt x="2437" y="15999"/>
                  <a:pt x="2392" y="15997"/>
                  <a:pt x="2257" y="15949"/>
                </a:cubicBezTo>
              </a:path>
              <a:path w="3474" h="2432">
                <a:moveTo>
                  <a:pt x="2108" y="16272"/>
                </a:moveTo>
                <a:cubicBezTo>
                  <a:pt x="2297" y="16365"/>
                  <a:pt x="2486" y="16364"/>
                  <a:pt x="2679" y="16247"/>
                </a:cubicBezTo>
                <a:cubicBezTo>
                  <a:pt x="2863" y="16136"/>
                  <a:pt x="3040" y="15979"/>
                  <a:pt x="3026" y="15776"/>
                </a:cubicBezTo>
                <a:cubicBezTo>
                  <a:pt x="2799" y="15621"/>
                  <a:pt x="2472" y="15460"/>
                  <a:pt x="2208" y="15677"/>
                </a:cubicBezTo>
                <a:cubicBezTo>
                  <a:pt x="1991" y="15856"/>
                  <a:pt x="2082" y="16004"/>
                  <a:pt x="2183" y="16173"/>
                </a:cubicBezTo>
              </a:path>
              <a:path w="3474" h="2432">
                <a:moveTo>
                  <a:pt x="1463" y="16123"/>
                </a:moveTo>
                <a:cubicBezTo>
                  <a:pt x="1463" y="16215"/>
                  <a:pt x="1489" y="16306"/>
                  <a:pt x="1414" y="16371"/>
                </a:cubicBezTo>
                <a:cubicBezTo>
                  <a:pt x="1325" y="16447"/>
                  <a:pt x="1303" y="16434"/>
                  <a:pt x="1240" y="16371"/>
                </a:cubicBezTo>
              </a:path>
              <a:path w="3474" h="2432">
                <a:moveTo>
                  <a:pt x="943" y="16669"/>
                </a:moveTo>
                <a:cubicBezTo>
                  <a:pt x="1059" y="16736"/>
                  <a:pt x="1202" y="16777"/>
                  <a:pt x="1339" y="16768"/>
                </a:cubicBezTo>
                <a:cubicBezTo>
                  <a:pt x="1433" y="16762"/>
                  <a:pt x="1566" y="16562"/>
                  <a:pt x="1612" y="16495"/>
                </a:cubicBezTo>
                <a:cubicBezTo>
                  <a:pt x="1719" y="16338"/>
                  <a:pt x="1762" y="16149"/>
                  <a:pt x="1687" y="15974"/>
                </a:cubicBezTo>
                <a:cubicBezTo>
                  <a:pt x="1638" y="15859"/>
                  <a:pt x="1524" y="15795"/>
                  <a:pt x="1414" y="15751"/>
                </a:cubicBezTo>
                <a:cubicBezTo>
                  <a:pt x="1346" y="15724"/>
                  <a:pt x="1267" y="15705"/>
                  <a:pt x="1191" y="15701"/>
                </a:cubicBezTo>
                <a:cubicBezTo>
                  <a:pt x="1064" y="15695"/>
                  <a:pt x="943" y="15780"/>
                  <a:pt x="868" y="15875"/>
                </a:cubicBezTo>
                <a:cubicBezTo>
                  <a:pt x="786" y="15979"/>
                  <a:pt x="653" y="16211"/>
                  <a:pt x="744" y="16346"/>
                </a:cubicBezTo>
                <a:cubicBezTo>
                  <a:pt x="870" y="16447"/>
                  <a:pt x="913" y="16482"/>
                  <a:pt x="101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7680" y="5840280"/>
            <a:ext cx="1179360" cy="554040"/>
          </a:xfrm>
          <a:custGeom>
            <a:avLst/>
            <a:gdLst/>
            <a:ahLst/>
            <a:rect l="l" t="t" r="r" b="b"/>
            <a:pathLst>
              <a:path w="3275" h="1539">
                <a:moveTo>
                  <a:pt x="2059" y="16768"/>
                </a:moveTo>
                <a:cubicBezTo>
                  <a:pt x="2140" y="16791"/>
                  <a:pt x="2222" y="16800"/>
                  <a:pt x="2307" y="16818"/>
                </a:cubicBezTo>
                <a:cubicBezTo>
                  <a:pt x="2338" y="17014"/>
                  <a:pt x="2249" y="17083"/>
                  <a:pt x="2084" y="17190"/>
                </a:cubicBezTo>
                <a:cubicBezTo>
                  <a:pt x="2067" y="17198"/>
                  <a:pt x="2051" y="17206"/>
                  <a:pt x="2034" y="17214"/>
                </a:cubicBezTo>
                <a:cubicBezTo>
                  <a:pt x="2127" y="17204"/>
                  <a:pt x="2281" y="17140"/>
                  <a:pt x="2356" y="17239"/>
                </a:cubicBezTo>
                <a:cubicBezTo>
                  <a:pt x="2356" y="17264"/>
                  <a:pt x="2356" y="17289"/>
                  <a:pt x="2356" y="17314"/>
                </a:cubicBezTo>
                <a:cubicBezTo>
                  <a:pt x="2273" y="17456"/>
                  <a:pt x="2164" y="17546"/>
                  <a:pt x="1984" y="17537"/>
                </a:cubicBezTo>
                <a:cubicBezTo>
                  <a:pt x="1889" y="17513"/>
                  <a:pt x="1859" y="17508"/>
                  <a:pt x="1836" y="17438"/>
                </a:cubicBezTo>
              </a:path>
              <a:path w="3275" h="1539">
                <a:moveTo>
                  <a:pt x="2704" y="16793"/>
                </a:moveTo>
                <a:cubicBezTo>
                  <a:pt x="2727" y="16722"/>
                  <a:pt x="2752" y="16721"/>
                  <a:pt x="2828" y="16743"/>
                </a:cubicBezTo>
                <a:cubicBezTo>
                  <a:pt x="2828" y="16917"/>
                  <a:pt x="2774" y="16986"/>
                  <a:pt x="2604" y="17066"/>
                </a:cubicBezTo>
                <a:cubicBezTo>
                  <a:pt x="2498" y="17116"/>
                  <a:pt x="2459" y="17137"/>
                  <a:pt x="2381" y="17090"/>
                </a:cubicBezTo>
                <a:cubicBezTo>
                  <a:pt x="2394" y="16999"/>
                  <a:pt x="2434" y="16979"/>
                  <a:pt x="2530" y="17016"/>
                </a:cubicBezTo>
                <a:cubicBezTo>
                  <a:pt x="2629" y="17066"/>
                  <a:pt x="2662" y="17083"/>
                  <a:pt x="2729" y="17115"/>
                </a:cubicBezTo>
              </a:path>
              <a:path w="3275" h="1539">
                <a:moveTo>
                  <a:pt x="3150" y="16842"/>
                </a:moveTo>
                <a:cubicBezTo>
                  <a:pt x="3220" y="16964"/>
                  <a:pt x="3266" y="17098"/>
                  <a:pt x="3349" y="17214"/>
                </a:cubicBezTo>
                <a:cubicBezTo>
                  <a:pt x="3357" y="17222"/>
                  <a:pt x="3365" y="17231"/>
                  <a:pt x="3373" y="17239"/>
                </a:cubicBezTo>
              </a:path>
              <a:path w="3275" h="1539">
                <a:moveTo>
                  <a:pt x="3398" y="16917"/>
                </a:moveTo>
                <a:cubicBezTo>
                  <a:pt x="3278" y="17037"/>
                  <a:pt x="3192" y="17132"/>
                  <a:pt x="3125" y="17289"/>
                </a:cubicBezTo>
              </a:path>
              <a:path w="3275" h="1539">
                <a:moveTo>
                  <a:pt x="3845" y="16818"/>
                </a:moveTo>
                <a:cubicBezTo>
                  <a:pt x="3833" y="16963"/>
                  <a:pt x="3833" y="17123"/>
                  <a:pt x="3795" y="17264"/>
                </a:cubicBezTo>
                <a:cubicBezTo>
                  <a:pt x="3787" y="17281"/>
                  <a:pt x="3778" y="17297"/>
                  <a:pt x="3770" y="17314"/>
                </a:cubicBezTo>
              </a:path>
              <a:path w="3275" h="1539">
                <a:moveTo>
                  <a:pt x="4118" y="16718"/>
                </a:moveTo>
                <a:cubicBezTo>
                  <a:pt x="4143" y="16883"/>
                  <a:pt x="4174" y="17127"/>
                  <a:pt x="4118" y="17289"/>
                </a:cubicBezTo>
                <a:cubicBezTo>
                  <a:pt x="4101" y="17305"/>
                  <a:pt x="4085" y="17322"/>
                  <a:pt x="4068" y="17338"/>
                </a:cubicBezTo>
              </a:path>
              <a:path w="3275" h="1539">
                <a:moveTo>
                  <a:pt x="2332" y="17711"/>
                </a:moveTo>
                <a:cubicBezTo>
                  <a:pt x="2503" y="17784"/>
                  <a:pt x="2685" y="17760"/>
                  <a:pt x="2877" y="17760"/>
                </a:cubicBezTo>
                <a:cubicBezTo>
                  <a:pt x="3161" y="17760"/>
                  <a:pt x="3439" y="17763"/>
                  <a:pt x="3721" y="17735"/>
                </a:cubicBezTo>
                <a:cubicBezTo>
                  <a:pt x="3970" y="17710"/>
                  <a:pt x="4141" y="17661"/>
                  <a:pt x="4366" y="17562"/>
                </a:cubicBezTo>
                <a:cubicBezTo>
                  <a:pt x="4509" y="17499"/>
                  <a:pt x="4627" y="17390"/>
                  <a:pt x="4688" y="17239"/>
                </a:cubicBezTo>
                <a:cubicBezTo>
                  <a:pt x="4733" y="17128"/>
                  <a:pt x="4714" y="16948"/>
                  <a:pt x="4663" y="16842"/>
                </a:cubicBezTo>
                <a:cubicBezTo>
                  <a:pt x="4589" y="16689"/>
                  <a:pt x="4465" y="16611"/>
                  <a:pt x="4316" y="16545"/>
                </a:cubicBezTo>
                <a:cubicBezTo>
                  <a:pt x="4187" y="16488"/>
                  <a:pt x="4051" y="16443"/>
                  <a:pt x="3919" y="16396"/>
                </a:cubicBezTo>
                <a:cubicBezTo>
                  <a:pt x="3814" y="16358"/>
                  <a:pt x="3704" y="16327"/>
                  <a:pt x="3597" y="16297"/>
                </a:cubicBezTo>
                <a:cubicBezTo>
                  <a:pt x="3483" y="16265"/>
                  <a:pt x="3364" y="16233"/>
                  <a:pt x="3249" y="16222"/>
                </a:cubicBezTo>
                <a:cubicBezTo>
                  <a:pt x="3054" y="16204"/>
                  <a:pt x="2793" y="16190"/>
                  <a:pt x="2604" y="16247"/>
                </a:cubicBezTo>
                <a:cubicBezTo>
                  <a:pt x="2446" y="16295"/>
                  <a:pt x="2257" y="16328"/>
                  <a:pt x="2108" y="16396"/>
                </a:cubicBezTo>
                <a:cubicBezTo>
                  <a:pt x="1991" y="16450"/>
                  <a:pt x="1874" y="16502"/>
                  <a:pt x="1761" y="16570"/>
                </a:cubicBezTo>
                <a:cubicBezTo>
                  <a:pt x="1695" y="16609"/>
                  <a:pt x="1621" y="16646"/>
                  <a:pt x="1563" y="16694"/>
                </a:cubicBezTo>
                <a:cubicBezTo>
                  <a:pt x="1447" y="16790"/>
                  <a:pt x="1443" y="16926"/>
                  <a:pt x="1439" y="17066"/>
                </a:cubicBezTo>
                <a:cubicBezTo>
                  <a:pt x="1436" y="17184"/>
                  <a:pt x="1487" y="17320"/>
                  <a:pt x="1563" y="17413"/>
                </a:cubicBezTo>
                <a:cubicBezTo>
                  <a:pt x="1670" y="17545"/>
                  <a:pt x="1747" y="17576"/>
                  <a:pt x="1910" y="17611"/>
                </a:cubicBezTo>
                <a:cubicBezTo>
                  <a:pt x="2041" y="17637"/>
                  <a:pt x="2090" y="17646"/>
                  <a:pt x="218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63880" y="498312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0914" y="13940"/>
                </a:moveTo>
                <a:cubicBezTo>
                  <a:pt x="10813" y="14075"/>
                  <a:pt x="10711" y="14193"/>
                  <a:pt x="10592" y="14312"/>
                </a:cubicBezTo>
                <a:cubicBezTo>
                  <a:pt x="10677" y="14178"/>
                  <a:pt x="10770" y="14023"/>
                  <a:pt x="10889" y="13915"/>
                </a:cubicBezTo>
                <a:cubicBezTo>
                  <a:pt x="10922" y="13890"/>
                  <a:pt x="10955" y="13866"/>
                  <a:pt x="10988" y="13841"/>
                </a:cubicBezTo>
                <a:cubicBezTo>
                  <a:pt x="11076" y="13952"/>
                  <a:pt x="11111" y="14112"/>
                  <a:pt x="11212" y="14213"/>
                </a:cubicBezTo>
                <a:cubicBezTo>
                  <a:pt x="11261" y="14238"/>
                  <a:pt x="11278" y="14247"/>
                  <a:pt x="11311" y="14263"/>
                </a:cubicBezTo>
              </a:path>
              <a:path w="3499" h="2556">
                <a:moveTo>
                  <a:pt x="10120" y="14536"/>
                </a:moveTo>
                <a:cubicBezTo>
                  <a:pt x="10019" y="14644"/>
                  <a:pt x="9838" y="14787"/>
                  <a:pt x="9922" y="14957"/>
                </a:cubicBezTo>
                <a:cubicBezTo>
                  <a:pt x="10013" y="15140"/>
                  <a:pt x="10295" y="15052"/>
                  <a:pt x="10393" y="14932"/>
                </a:cubicBezTo>
                <a:cubicBezTo>
                  <a:pt x="10564" y="14723"/>
                  <a:pt x="10295" y="14809"/>
                  <a:pt x="10220" y="14908"/>
                </a:cubicBezTo>
              </a:path>
              <a:path w="3499" h="2556">
                <a:moveTo>
                  <a:pt x="11485" y="14387"/>
                </a:moveTo>
                <a:cubicBezTo>
                  <a:pt x="11427" y="14552"/>
                  <a:pt x="11363" y="14664"/>
                  <a:pt x="11410" y="14833"/>
                </a:cubicBezTo>
                <a:cubicBezTo>
                  <a:pt x="11583" y="14854"/>
                  <a:pt x="11663" y="14857"/>
                  <a:pt x="11733" y="14684"/>
                </a:cubicBezTo>
                <a:cubicBezTo>
                  <a:pt x="11580" y="14668"/>
                  <a:pt x="11577" y="14768"/>
                  <a:pt x="11559" y="14908"/>
                </a:cubicBezTo>
              </a:path>
              <a:path w="3499" h="2556">
                <a:moveTo>
                  <a:pt x="9773" y="15230"/>
                </a:moveTo>
                <a:cubicBezTo>
                  <a:pt x="9677" y="15343"/>
                  <a:pt x="9580" y="15448"/>
                  <a:pt x="9475" y="15553"/>
                </a:cubicBezTo>
                <a:cubicBezTo>
                  <a:pt x="9582" y="15482"/>
                  <a:pt x="9710" y="15316"/>
                  <a:pt x="9798" y="15205"/>
                </a:cubicBezTo>
                <a:cubicBezTo>
                  <a:pt x="9806" y="15189"/>
                  <a:pt x="9815" y="15172"/>
                  <a:pt x="9823" y="15156"/>
                </a:cubicBezTo>
                <a:cubicBezTo>
                  <a:pt x="9913" y="15269"/>
                  <a:pt x="9957" y="15397"/>
                  <a:pt x="10021" y="15528"/>
                </a:cubicBezTo>
                <a:cubicBezTo>
                  <a:pt x="10029" y="15544"/>
                  <a:pt x="10038" y="15561"/>
                  <a:pt x="10046" y="15577"/>
                </a:cubicBezTo>
              </a:path>
              <a:path w="3499" h="2556">
                <a:moveTo>
                  <a:pt x="8632" y="15652"/>
                </a:moveTo>
                <a:cubicBezTo>
                  <a:pt x="8791" y="15672"/>
                  <a:pt x="8794" y="15682"/>
                  <a:pt x="8905" y="15801"/>
                </a:cubicBezTo>
                <a:cubicBezTo>
                  <a:pt x="8772" y="16029"/>
                  <a:pt x="8699" y="16048"/>
                  <a:pt x="8434" y="16024"/>
                </a:cubicBezTo>
                <a:cubicBezTo>
                  <a:pt x="8519" y="15867"/>
                  <a:pt x="8665" y="15862"/>
                  <a:pt x="8830" y="15974"/>
                </a:cubicBezTo>
                <a:cubicBezTo>
                  <a:pt x="8847" y="15991"/>
                  <a:pt x="8863" y="16007"/>
                  <a:pt x="8880" y="16024"/>
                </a:cubicBezTo>
              </a:path>
              <a:path w="3499" h="2556">
                <a:moveTo>
                  <a:pt x="10046" y="15801"/>
                </a:moveTo>
                <a:cubicBezTo>
                  <a:pt x="10158" y="15768"/>
                  <a:pt x="10454" y="15754"/>
                  <a:pt x="10244" y="15949"/>
                </a:cubicBezTo>
                <a:cubicBezTo>
                  <a:pt x="10211" y="15966"/>
                  <a:pt x="10178" y="15982"/>
                  <a:pt x="10145" y="15999"/>
                </a:cubicBezTo>
                <a:cubicBezTo>
                  <a:pt x="10053" y="16031"/>
                  <a:pt x="10256" y="15941"/>
                  <a:pt x="10344" y="16049"/>
                </a:cubicBezTo>
                <a:cubicBezTo>
                  <a:pt x="10496" y="16235"/>
                  <a:pt x="9992" y="16176"/>
                  <a:pt x="9947" y="16173"/>
                </a:cubicBezTo>
              </a:path>
              <a:path w="3499" h="2556">
                <a:moveTo>
                  <a:pt x="9674" y="16321"/>
                </a:moveTo>
                <a:cubicBezTo>
                  <a:pt x="9885" y="16400"/>
                  <a:pt x="10128" y="16436"/>
                  <a:pt x="10344" y="16321"/>
                </a:cubicBezTo>
                <a:cubicBezTo>
                  <a:pt x="10519" y="16227"/>
                  <a:pt x="10722" y="15921"/>
                  <a:pt x="10567" y="15726"/>
                </a:cubicBezTo>
                <a:cubicBezTo>
                  <a:pt x="10328" y="15426"/>
                  <a:pt x="9920" y="15681"/>
                  <a:pt x="9798" y="15949"/>
                </a:cubicBezTo>
                <a:cubicBezTo>
                  <a:pt x="9773" y="16146"/>
                  <a:pt x="9764" y="16210"/>
                  <a:pt x="9897" y="16297"/>
                </a:cubicBezTo>
              </a:path>
              <a:path w="3499" h="2556">
                <a:moveTo>
                  <a:pt x="8235" y="16148"/>
                </a:moveTo>
                <a:cubicBezTo>
                  <a:pt x="8342" y="16392"/>
                  <a:pt x="8506" y="16421"/>
                  <a:pt x="8781" y="16396"/>
                </a:cubicBezTo>
                <a:cubicBezTo>
                  <a:pt x="9005" y="16375"/>
                  <a:pt x="9436" y="16161"/>
                  <a:pt x="9252" y="15850"/>
                </a:cubicBezTo>
                <a:cubicBezTo>
                  <a:pt x="9097" y="15587"/>
                  <a:pt x="8524" y="15423"/>
                  <a:pt x="8310" y="15701"/>
                </a:cubicBezTo>
                <a:cubicBezTo>
                  <a:pt x="8237" y="15942"/>
                  <a:pt x="8210" y="16017"/>
                  <a:pt x="8310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43160" y="5419800"/>
            <a:ext cx="1527120" cy="1073160"/>
          </a:xfrm>
          <a:custGeom>
            <a:avLst/>
            <a:gdLst/>
            <a:ahLst/>
            <a:rect l="l" t="t" r="r" b="b"/>
            <a:pathLst>
              <a:path w="4243" h="2978">
                <a:moveTo>
                  <a:pt x="11609" y="15106"/>
                </a:moveTo>
                <a:cubicBezTo>
                  <a:pt x="11559" y="15239"/>
                  <a:pt x="11520" y="15341"/>
                  <a:pt x="11435" y="15453"/>
                </a:cubicBezTo>
                <a:cubicBezTo>
                  <a:pt x="11497" y="15310"/>
                  <a:pt x="11545" y="15156"/>
                  <a:pt x="11658" y="15056"/>
                </a:cubicBezTo>
                <a:cubicBezTo>
                  <a:pt x="11811" y="15127"/>
                  <a:pt x="11921" y="15224"/>
                  <a:pt x="12080" y="15280"/>
                </a:cubicBezTo>
              </a:path>
              <a:path w="4243" h="2978">
                <a:moveTo>
                  <a:pt x="11311" y="15801"/>
                </a:moveTo>
                <a:cubicBezTo>
                  <a:pt x="11383" y="15793"/>
                  <a:pt x="11418" y="15786"/>
                  <a:pt x="11485" y="15801"/>
                </a:cubicBezTo>
                <a:cubicBezTo>
                  <a:pt x="11462" y="15990"/>
                  <a:pt x="11398" y="16125"/>
                  <a:pt x="11162" y="16098"/>
                </a:cubicBezTo>
                <a:cubicBezTo>
                  <a:pt x="11129" y="16082"/>
                  <a:pt x="11096" y="16065"/>
                  <a:pt x="11063" y="16049"/>
                </a:cubicBezTo>
                <a:cubicBezTo>
                  <a:pt x="11167" y="15900"/>
                  <a:pt x="11261" y="15948"/>
                  <a:pt x="11410" y="16049"/>
                </a:cubicBezTo>
                <a:cubicBezTo>
                  <a:pt x="11418" y="16057"/>
                  <a:pt x="11427" y="16065"/>
                  <a:pt x="11435" y="16073"/>
                </a:cubicBezTo>
              </a:path>
              <a:path w="4243" h="2978">
                <a:moveTo>
                  <a:pt x="12229" y="15429"/>
                </a:moveTo>
                <a:cubicBezTo>
                  <a:pt x="12273" y="15404"/>
                  <a:pt x="12477" y="15304"/>
                  <a:pt x="12452" y="15453"/>
                </a:cubicBezTo>
                <a:cubicBezTo>
                  <a:pt x="12399" y="15532"/>
                  <a:pt x="12379" y="15560"/>
                  <a:pt x="12328" y="15602"/>
                </a:cubicBezTo>
                <a:cubicBezTo>
                  <a:pt x="12328" y="15552"/>
                  <a:pt x="12489" y="15600"/>
                  <a:pt x="12502" y="15701"/>
                </a:cubicBezTo>
                <a:cubicBezTo>
                  <a:pt x="12523" y="15867"/>
                  <a:pt x="12351" y="15840"/>
                  <a:pt x="12254" y="15850"/>
                </a:cubicBezTo>
              </a:path>
              <a:path w="4243" h="2978">
                <a:moveTo>
                  <a:pt x="12005" y="15974"/>
                </a:moveTo>
                <a:cubicBezTo>
                  <a:pt x="12239" y="16035"/>
                  <a:pt x="12509" y="16047"/>
                  <a:pt x="12750" y="15974"/>
                </a:cubicBezTo>
                <a:cubicBezTo>
                  <a:pt x="13084" y="15873"/>
                  <a:pt x="12972" y="15555"/>
                  <a:pt x="12774" y="15379"/>
                </a:cubicBezTo>
                <a:cubicBezTo>
                  <a:pt x="12447" y="15087"/>
                  <a:pt x="12125" y="15259"/>
                  <a:pt x="12055" y="15677"/>
                </a:cubicBezTo>
                <a:cubicBezTo>
                  <a:pt x="12063" y="15751"/>
                  <a:pt x="12072" y="15826"/>
                  <a:pt x="12080" y="15900"/>
                </a:cubicBezTo>
              </a:path>
              <a:path w="4243" h="2978">
                <a:moveTo>
                  <a:pt x="11038" y="16297"/>
                </a:moveTo>
                <a:cubicBezTo>
                  <a:pt x="11092" y="16440"/>
                  <a:pt x="11311" y="16451"/>
                  <a:pt x="11460" y="16421"/>
                </a:cubicBezTo>
                <a:cubicBezTo>
                  <a:pt x="11697" y="16373"/>
                  <a:pt x="11998" y="16129"/>
                  <a:pt x="11906" y="15850"/>
                </a:cubicBezTo>
                <a:cubicBezTo>
                  <a:pt x="11797" y="15519"/>
                  <a:pt x="11338" y="15403"/>
                  <a:pt x="11088" y="15627"/>
                </a:cubicBezTo>
                <a:cubicBezTo>
                  <a:pt x="10802" y="15883"/>
                  <a:pt x="10948" y="16010"/>
                  <a:pt x="11112" y="16222"/>
                </a:cubicBezTo>
              </a:path>
              <a:path w="4243" h="2978">
                <a:moveTo>
                  <a:pt x="9451" y="17016"/>
                </a:moveTo>
                <a:cubicBezTo>
                  <a:pt x="9575" y="17037"/>
                  <a:pt x="9683" y="17127"/>
                  <a:pt x="9699" y="17264"/>
                </a:cubicBezTo>
                <a:cubicBezTo>
                  <a:pt x="9725" y="17495"/>
                  <a:pt x="9384" y="17626"/>
                  <a:pt x="9203" y="17611"/>
                </a:cubicBezTo>
                <a:cubicBezTo>
                  <a:pt x="9170" y="17595"/>
                  <a:pt x="9136" y="17578"/>
                  <a:pt x="9103" y="17562"/>
                </a:cubicBezTo>
                <a:cubicBezTo>
                  <a:pt x="9197" y="17421"/>
                  <a:pt x="9304" y="17346"/>
                  <a:pt x="9475" y="17438"/>
                </a:cubicBezTo>
                <a:cubicBezTo>
                  <a:pt x="9551" y="17494"/>
                  <a:pt x="9564" y="17497"/>
                  <a:pt x="9599" y="17537"/>
                </a:cubicBezTo>
              </a:path>
              <a:path w="4243" h="2978">
                <a:moveTo>
                  <a:pt x="9798" y="16818"/>
                </a:moveTo>
                <a:cubicBezTo>
                  <a:pt x="9865" y="16855"/>
                  <a:pt x="9915" y="16891"/>
                  <a:pt x="9971" y="16942"/>
                </a:cubicBezTo>
                <a:cubicBezTo>
                  <a:pt x="9902" y="17081"/>
                  <a:pt x="9799" y="17159"/>
                  <a:pt x="9624" y="17115"/>
                </a:cubicBezTo>
                <a:cubicBezTo>
                  <a:pt x="9568" y="17078"/>
                  <a:pt x="9543" y="17083"/>
                  <a:pt x="9550" y="17041"/>
                </a:cubicBezTo>
                <a:cubicBezTo>
                  <a:pt x="9714" y="16977"/>
                  <a:pt x="9770" y="17010"/>
                  <a:pt x="9847" y="17165"/>
                </a:cubicBezTo>
              </a:path>
              <a:path w="4243" h="2978">
                <a:moveTo>
                  <a:pt x="10269" y="17041"/>
                </a:moveTo>
                <a:cubicBezTo>
                  <a:pt x="10351" y="17183"/>
                  <a:pt x="10433" y="17323"/>
                  <a:pt x="10517" y="17462"/>
                </a:cubicBezTo>
              </a:path>
              <a:path w="4243" h="2978">
                <a:moveTo>
                  <a:pt x="10542" y="17066"/>
                </a:moveTo>
                <a:cubicBezTo>
                  <a:pt x="10444" y="17224"/>
                  <a:pt x="10344" y="17381"/>
                  <a:pt x="10244" y="17537"/>
                </a:cubicBezTo>
              </a:path>
              <a:path w="4243" h="2978">
                <a:moveTo>
                  <a:pt x="10840" y="17041"/>
                </a:moveTo>
                <a:cubicBezTo>
                  <a:pt x="10925" y="17058"/>
                  <a:pt x="11277" y="17081"/>
                  <a:pt x="11112" y="17239"/>
                </a:cubicBezTo>
                <a:cubicBezTo>
                  <a:pt x="11016" y="17288"/>
                  <a:pt x="10985" y="17304"/>
                  <a:pt x="10914" y="17314"/>
                </a:cubicBezTo>
                <a:cubicBezTo>
                  <a:pt x="11075" y="17325"/>
                  <a:pt x="11061" y="17314"/>
                  <a:pt x="11137" y="17438"/>
                </a:cubicBezTo>
                <a:cubicBezTo>
                  <a:pt x="11052" y="17636"/>
                  <a:pt x="10966" y="17610"/>
                  <a:pt x="10765" y="17562"/>
                </a:cubicBezTo>
              </a:path>
              <a:path w="4243" h="2978">
                <a:moveTo>
                  <a:pt x="11410" y="16867"/>
                </a:moveTo>
                <a:cubicBezTo>
                  <a:pt x="11481" y="16876"/>
                  <a:pt x="11577" y="16924"/>
                  <a:pt x="11584" y="17016"/>
                </a:cubicBezTo>
                <a:cubicBezTo>
                  <a:pt x="11597" y="17189"/>
                  <a:pt x="11374" y="17134"/>
                  <a:pt x="11286" y="17115"/>
                </a:cubicBezTo>
                <a:cubicBezTo>
                  <a:pt x="11361" y="16991"/>
                  <a:pt x="11410" y="17057"/>
                  <a:pt x="11485" y="17140"/>
                </a:cubicBezTo>
              </a:path>
              <a:path w="4243" h="2978">
                <a:moveTo>
                  <a:pt x="9227" y="17859"/>
                </a:moveTo>
                <a:cubicBezTo>
                  <a:pt x="9445" y="17985"/>
                  <a:pt x="9665" y="18022"/>
                  <a:pt x="9922" y="18033"/>
                </a:cubicBezTo>
                <a:cubicBezTo>
                  <a:pt x="10260" y="18048"/>
                  <a:pt x="10610" y="18048"/>
                  <a:pt x="10939" y="17959"/>
                </a:cubicBezTo>
                <a:cubicBezTo>
                  <a:pt x="11212" y="17886"/>
                  <a:pt x="11473" y="17767"/>
                  <a:pt x="11708" y="17611"/>
                </a:cubicBezTo>
                <a:cubicBezTo>
                  <a:pt x="11801" y="17549"/>
                  <a:pt x="11981" y="17448"/>
                  <a:pt x="11981" y="17314"/>
                </a:cubicBezTo>
                <a:cubicBezTo>
                  <a:pt x="11981" y="17209"/>
                  <a:pt x="11913" y="17102"/>
                  <a:pt x="11857" y="17016"/>
                </a:cubicBezTo>
                <a:cubicBezTo>
                  <a:pt x="11813" y="16949"/>
                  <a:pt x="11770" y="16871"/>
                  <a:pt x="11708" y="16818"/>
                </a:cubicBezTo>
                <a:cubicBezTo>
                  <a:pt x="11622" y="16744"/>
                  <a:pt x="11533" y="16721"/>
                  <a:pt x="11435" y="16669"/>
                </a:cubicBezTo>
                <a:cubicBezTo>
                  <a:pt x="11310" y="16603"/>
                  <a:pt x="11229" y="16555"/>
                  <a:pt x="11088" y="16520"/>
                </a:cubicBezTo>
                <a:cubicBezTo>
                  <a:pt x="10935" y="16482"/>
                  <a:pt x="10793" y="16431"/>
                  <a:pt x="10641" y="16396"/>
                </a:cubicBezTo>
                <a:cubicBezTo>
                  <a:pt x="10433" y="16349"/>
                  <a:pt x="10208" y="16349"/>
                  <a:pt x="9996" y="16346"/>
                </a:cubicBezTo>
                <a:cubicBezTo>
                  <a:pt x="9826" y="16343"/>
                  <a:pt x="9689" y="16355"/>
                  <a:pt x="9525" y="16396"/>
                </a:cubicBezTo>
                <a:cubicBezTo>
                  <a:pt x="9356" y="16439"/>
                  <a:pt x="9205" y="16507"/>
                  <a:pt x="9054" y="16594"/>
                </a:cubicBezTo>
                <a:cubicBezTo>
                  <a:pt x="8890" y="16689"/>
                  <a:pt x="8742" y="16863"/>
                  <a:pt x="8731" y="17066"/>
                </a:cubicBezTo>
                <a:cubicBezTo>
                  <a:pt x="8716" y="17340"/>
                  <a:pt x="8905" y="17713"/>
                  <a:pt x="9153" y="17835"/>
                </a:cubicBezTo>
                <a:cubicBezTo>
                  <a:pt x="9244" y="17860"/>
                  <a:pt x="9335" y="17884"/>
                  <a:pt x="94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71280"/>
            <a:ext cx="1081080" cy="304920"/>
          </a:xfrm>
          <a:custGeom>
            <a:avLst/>
            <a:gdLst/>
            <a:ahLst/>
            <a:rect l="l" t="t" r="r" b="b"/>
            <a:pathLst>
              <a:path w="3002" h="845">
                <a:moveTo>
                  <a:pt x="3770" y="273"/>
                </a:moveTo>
                <a:cubicBezTo>
                  <a:pt x="3770" y="298"/>
                  <a:pt x="3770" y="322"/>
                  <a:pt x="3770" y="347"/>
                </a:cubicBezTo>
                <a:cubicBezTo>
                  <a:pt x="3770" y="456"/>
                  <a:pt x="3792" y="223"/>
                  <a:pt x="3696" y="198"/>
                </a:cubicBezTo>
                <a:cubicBezTo>
                  <a:pt x="3502" y="147"/>
                  <a:pt x="3286" y="379"/>
                  <a:pt x="3200" y="521"/>
                </a:cubicBezTo>
                <a:cubicBezTo>
                  <a:pt x="3081" y="718"/>
                  <a:pt x="3377" y="875"/>
                  <a:pt x="3522" y="918"/>
                </a:cubicBezTo>
                <a:cubicBezTo>
                  <a:pt x="3555" y="918"/>
                  <a:pt x="3588" y="918"/>
                  <a:pt x="3621" y="918"/>
                </a:cubicBezTo>
              </a:path>
              <a:path w="3002" h="845">
                <a:moveTo>
                  <a:pt x="4217" y="769"/>
                </a:moveTo>
                <a:cubicBezTo>
                  <a:pt x="4079" y="752"/>
                  <a:pt x="3920" y="762"/>
                  <a:pt x="3845" y="918"/>
                </a:cubicBezTo>
                <a:cubicBezTo>
                  <a:pt x="3845" y="943"/>
                  <a:pt x="3845" y="967"/>
                  <a:pt x="3845" y="992"/>
                </a:cubicBezTo>
                <a:cubicBezTo>
                  <a:pt x="3974" y="1044"/>
                  <a:pt x="4236" y="1077"/>
                  <a:pt x="4242" y="843"/>
                </a:cubicBezTo>
                <a:cubicBezTo>
                  <a:pt x="4225" y="810"/>
                  <a:pt x="4209" y="777"/>
                  <a:pt x="4192" y="744"/>
                </a:cubicBezTo>
              </a:path>
              <a:path w="3002" h="845">
                <a:moveTo>
                  <a:pt x="4638" y="769"/>
                </a:moveTo>
                <a:cubicBezTo>
                  <a:pt x="4539" y="835"/>
                  <a:pt x="4533" y="859"/>
                  <a:pt x="4490" y="967"/>
                </a:cubicBezTo>
                <a:cubicBezTo>
                  <a:pt x="4596" y="1057"/>
                  <a:pt x="4683" y="1060"/>
                  <a:pt x="4787" y="943"/>
                </a:cubicBezTo>
                <a:cubicBezTo>
                  <a:pt x="4850" y="839"/>
                  <a:pt x="4875" y="821"/>
                  <a:pt x="4862" y="744"/>
                </a:cubicBezTo>
                <a:cubicBezTo>
                  <a:pt x="4843" y="851"/>
                  <a:pt x="4834" y="913"/>
                  <a:pt x="4862" y="1017"/>
                </a:cubicBezTo>
              </a:path>
              <a:path w="3002" h="845">
                <a:moveTo>
                  <a:pt x="5135" y="868"/>
                </a:moveTo>
                <a:cubicBezTo>
                  <a:pt x="5117" y="959"/>
                  <a:pt x="5108" y="966"/>
                  <a:pt x="5110" y="1017"/>
                </a:cubicBezTo>
                <a:cubicBezTo>
                  <a:pt x="5120" y="851"/>
                  <a:pt x="5126" y="751"/>
                  <a:pt x="5283" y="670"/>
                </a:cubicBezTo>
                <a:cubicBezTo>
                  <a:pt x="5308" y="662"/>
                  <a:pt x="5333" y="653"/>
                  <a:pt x="5358" y="645"/>
                </a:cubicBezTo>
              </a:path>
              <a:path w="3002" h="845">
                <a:moveTo>
                  <a:pt x="5680" y="744"/>
                </a:moveTo>
                <a:cubicBezTo>
                  <a:pt x="5580" y="768"/>
                  <a:pt x="5481" y="791"/>
                  <a:pt x="5383" y="819"/>
                </a:cubicBezTo>
                <a:cubicBezTo>
                  <a:pt x="5460" y="842"/>
                  <a:pt x="5855" y="842"/>
                  <a:pt x="5680" y="992"/>
                </a:cubicBezTo>
                <a:cubicBezTo>
                  <a:pt x="5573" y="1019"/>
                  <a:pt x="5532" y="1026"/>
                  <a:pt x="5457" y="992"/>
                </a:cubicBezTo>
              </a:path>
              <a:path w="3002" h="845">
                <a:moveTo>
                  <a:pt x="6003" y="819"/>
                </a:moveTo>
                <a:cubicBezTo>
                  <a:pt x="6072" y="784"/>
                  <a:pt x="6242" y="750"/>
                  <a:pt x="6102" y="645"/>
                </a:cubicBezTo>
                <a:cubicBezTo>
                  <a:pt x="6069" y="637"/>
                  <a:pt x="6036" y="628"/>
                  <a:pt x="6003" y="620"/>
                </a:cubicBezTo>
                <a:cubicBezTo>
                  <a:pt x="5887" y="736"/>
                  <a:pt x="5851" y="824"/>
                  <a:pt x="5879" y="992"/>
                </a:cubicBezTo>
                <a:cubicBezTo>
                  <a:pt x="6021" y="1021"/>
                  <a:pt x="6079" y="1024"/>
                  <a:pt x="6176" y="9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27200" y="81000"/>
            <a:ext cx="250920" cy="2221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7317" y="347"/>
                </a:moveTo>
                <a:cubicBezTo>
                  <a:pt x="7365" y="288"/>
                  <a:pt x="7543" y="206"/>
                  <a:pt x="7640" y="223"/>
                </a:cubicBezTo>
                <a:cubicBezTo>
                  <a:pt x="7665" y="240"/>
                  <a:pt x="7689" y="256"/>
                  <a:pt x="7714" y="273"/>
                </a:cubicBezTo>
                <a:cubicBezTo>
                  <a:pt x="7714" y="425"/>
                  <a:pt x="7665" y="478"/>
                  <a:pt x="7516" y="546"/>
                </a:cubicBezTo>
                <a:cubicBezTo>
                  <a:pt x="7368" y="614"/>
                  <a:pt x="7167" y="622"/>
                  <a:pt x="7045" y="744"/>
                </a:cubicBezTo>
                <a:cubicBezTo>
                  <a:pt x="7037" y="761"/>
                  <a:pt x="7028" y="777"/>
                  <a:pt x="7020" y="794"/>
                </a:cubicBezTo>
                <a:cubicBezTo>
                  <a:pt x="7132" y="766"/>
                  <a:pt x="7226" y="694"/>
                  <a:pt x="7342" y="744"/>
                </a:cubicBezTo>
                <a:cubicBezTo>
                  <a:pt x="7422" y="778"/>
                  <a:pt x="7438" y="824"/>
                  <a:pt x="7516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17880" y="108000"/>
            <a:ext cx="696960" cy="276120"/>
          </a:xfrm>
          <a:custGeom>
            <a:avLst/>
            <a:gdLst/>
            <a:ahLst/>
            <a:rect l="l" t="t" r="r" b="b"/>
            <a:pathLst>
              <a:path w="1936" h="770">
                <a:moveTo>
                  <a:pt x="8682" y="521"/>
                </a:moveTo>
                <a:cubicBezTo>
                  <a:pt x="8601" y="547"/>
                  <a:pt x="8318" y="610"/>
                  <a:pt x="8384" y="769"/>
                </a:cubicBezTo>
                <a:cubicBezTo>
                  <a:pt x="8471" y="978"/>
                  <a:pt x="8836" y="902"/>
                  <a:pt x="8905" y="719"/>
                </a:cubicBezTo>
                <a:cubicBezTo>
                  <a:pt x="8959" y="578"/>
                  <a:pt x="8762" y="536"/>
                  <a:pt x="8682" y="496"/>
                </a:cubicBezTo>
              </a:path>
              <a:path w="1936" h="770">
                <a:moveTo>
                  <a:pt x="9004" y="744"/>
                </a:moveTo>
                <a:cubicBezTo>
                  <a:pt x="8950" y="781"/>
                  <a:pt x="8960" y="747"/>
                  <a:pt x="8930" y="645"/>
                </a:cubicBezTo>
                <a:cubicBezTo>
                  <a:pt x="9015" y="544"/>
                  <a:pt x="9126" y="525"/>
                  <a:pt x="9252" y="595"/>
                </a:cubicBezTo>
                <a:cubicBezTo>
                  <a:pt x="9357" y="653"/>
                  <a:pt x="9351" y="793"/>
                  <a:pt x="9351" y="893"/>
                </a:cubicBezTo>
              </a:path>
              <a:path w="1936" h="770">
                <a:moveTo>
                  <a:pt x="9674" y="298"/>
                </a:moveTo>
                <a:cubicBezTo>
                  <a:pt x="9674" y="459"/>
                  <a:pt x="9654" y="608"/>
                  <a:pt x="9649" y="769"/>
                </a:cubicBezTo>
                <a:cubicBezTo>
                  <a:pt x="9649" y="786"/>
                  <a:pt x="9649" y="802"/>
                  <a:pt x="9649" y="819"/>
                </a:cubicBezTo>
              </a:path>
              <a:path w="1936" h="770">
                <a:moveTo>
                  <a:pt x="9922" y="521"/>
                </a:moveTo>
                <a:cubicBezTo>
                  <a:pt x="9972" y="646"/>
                  <a:pt x="9956" y="607"/>
                  <a:pt x="10096" y="695"/>
                </a:cubicBezTo>
              </a:path>
              <a:path w="1936" h="770">
                <a:moveTo>
                  <a:pt x="10319" y="471"/>
                </a:moveTo>
                <a:cubicBezTo>
                  <a:pt x="10243" y="645"/>
                  <a:pt x="10166" y="832"/>
                  <a:pt x="10120" y="1017"/>
                </a:cubicBezTo>
                <a:cubicBezTo>
                  <a:pt x="10120" y="1034"/>
                  <a:pt x="10120" y="1050"/>
                  <a:pt x="10120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p. 59 &amp;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2-22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29T17:45:46Z</dcterms:modified>
  <cp:revision>38</cp:revision>
  <dc:subject/>
  <dc:title>Unit 1 – Variables and Equations </dc:title>
</cp:coreProperties>
</file>